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33.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2F46A-7E2C-41E7-AE95-3AC7A8902E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7EC7-9EDE-40FA-AF6B-1011AEE3B8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24B9-FCC0-4778-889C-8124D33E98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securityplanet.com/mobile-security/inside-the-bluebox-android-master-key-vulnerability.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plus.google.com/113331808607528811927/posts/GxDA6111vYy</a:t>
            </a:r>
            <a:br>
              <a:rPr sz="1200"/>
            </a:br>
            <a:r>
              <a:rPr b="0" lang="en-US" sz="1200" spc="-1" strike="noStrike">
                <a:solidFill>
                  <a:srgbClr val="000000"/>
                </a:solidFill>
                <a:latin typeface="Calibri"/>
              </a:rPr>
              <a:t>http://web.nvd.nist.gov/view/vuln/detail;jsessionid=64A7C2FA4E8739BD52256A9A63098F39?vulnId=CVE-2013-47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3857-2EAD-41C1-8B1F-98AFCC8025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NSA inserted backdoor into NIST random number generator method” by David Perera, September 9, 2013. FierceGovernmentIT http://www.fiercegovernmentit.com/story/nsa-inserted-backdoor-nist-random-number-generator-method/2013-09-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pectrum.ieee.org/telecom/security/can-you-trust-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wired.com/politics/security/commentary/securitymatters/2007/11/securitymatters_11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SUPPLEMENTAL ITL BULLETIN FOR SEPTEMBER 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eb.archive.org/web/*/http://csrc.nist.gov/publications/nistbul/itlbul2013_09_supplemental.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D60B5-D0F5-4339-A278-C5FAB6FA17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er Neumann quote from Kloata G, “The key vanishes: Scientist outlines unbreakable code.” New York Times. Feb 20, 2001.  http://www.nytimes.com/2001/02/20/science/the-key-vanishes-scientist-outlines-unbreakable-code.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EAD8-5E0F-46EF-A556-733281B150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FF66-AE0B-4D3C-BE4A-ED48CA5E1A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11D9-4842-40DF-AAE4-257D66D02F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by, S. A., Wallach, D. S., and Riedi, R. H. 2009. Opportunities and limits of remote ti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s. ACM Trans. Inf. Syst. Secur. 12, 3, Article 17 (January 2009), 29 p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I = 10.1145/1455526.1455530. http://doi.acm.org/10.1145/1455526.14555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dist.root.org/2010/01/07/timing-independent-array-compa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codahale.com/a-lesson-in-timing-att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mote Timing Attacks are Pract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Brumley and Dan Bone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A048C-D9AB-46E9-82E3-8A7106ED23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e Law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7,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independent array compa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dist.root.org/2010/01/07/timing-independent-array-compa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le, Co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codahale.com/a-lesson-in-timing-att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sson In Timing Attacks (or, Don’t use MessageDigest.isEq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Aug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05A3-B586-4E0E-9344-977CA576A8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Tricky Path to Quantum-Safe Encry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quantamagazine.org/20150908-quantum-safe-encry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cientificamerican.com/article/cryptographers-brace-for-quantum-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F631-B6E2-4F66-8BF9-74BB44679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E197-0E0D-4582-AE96-AEF624D4D5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7966E-3632-4F06-AAC6-739E5486D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941A4-BDBA-4EA2-A24A-560452548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DA28D-7443-4467-80B5-C9367F6E5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F50A1-D17B-4207-B3F5-08ECC6077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0A48A-DA67-4AC8-A5F1-D74790CA2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6F0F1-2827-4E01-929A-3AE0A66D1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3F7FA-0964-4780-87B7-0DF117AB7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07D46-65E2-45E4-B50B-8BD5D758E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9A705-F1AE-45BF-A0C7-C82FD9EFD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277F3-0203-4C46-B7EA-5EEA5C376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4ACCB-6BD4-421A-B401-A2BE022D9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28496-0102-4D3E-AF62-2360D19C0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81B5-5F91-4B0F-A51A-C980577C207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55D1-BC77-4E72-8349-6937A25663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04760"/>
            <a:ext cx="7772400" cy="16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WE 681 / ISA 681</a:t>
            </a:r>
            <a:br>
              <a:rPr sz="4000"/>
            </a:br>
            <a:r>
              <a:rPr b="0" lang="en-US" sz="4000" spc="-1" strike="noStrike">
                <a:solidFill>
                  <a:srgbClr val="000000"/>
                </a:solidFill>
                <a:latin typeface="Calibri"/>
              </a:rPr>
              <a:t>Secure Software Design &amp; Programming:</a:t>
            </a:r>
            <a:br>
              <a:rPr sz="4000"/>
            </a:br>
            <a:r>
              <a:rPr b="0" lang="en-US" sz="4000" spc="-1" strike="noStrike">
                <a:solidFill>
                  <a:srgbClr val="000000"/>
                </a:solidFill>
                <a:latin typeface="Calibri"/>
              </a:rPr>
              <a:t>Lecture 7: Cryptography</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David A. Wheele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5-09-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ple DE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ses DES 3 times, with 3 keys K1…K3:</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phertext = E(K3, D(K2, E(K1, plaintex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intext = D(K1, E(K2, D(K3, ciphertext)))</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DES key 56 bits, full key length 3x56=168 bit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ffective key length strength is 112 bits due to a “man in the middle” attac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ust like DES, keys must have correct parity &amp; avoid weak key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latively secure, but sl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d, as Triple Data Encryption Algorithm, i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IST Special Publication 800-67 Revision 1</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O/IEC 18033-3:2005 Information technology — Security techniques — Encryption algorithms — Part 3: Block ciphers</a:t>
            </a:r>
            <a:endParaRPr b="0" lang="en-US" sz="2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0BDB-051D-4578-83DC-315D09CFF2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ced Encryption Standard (AE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placed D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 key too short, 3DES too slow</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ed through open international competition run by NIS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d algorithms &amp; sample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bid patents (so anyone can us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etition was a fantastic succes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5 candidates; Rijdael won &amp; became A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 FIPS PUB 197</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imple-to-understand detailed description is at:</a:t>
            </a:r>
            <a:endParaRPr b="0" lang="en-US" sz="30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ttp://www.moserware.com/2009/09/stick-figure-guide-to-advanced.html</a:t>
            </a:r>
            <a:endParaRPr b="0" lang="en-US" sz="19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0F98-D8A6-4C90-8851-BC659070BD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ES (2)</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jndael algorithm allows block and key sizes of any multiple of 32 bits, 128…256 b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ES is a limited variant of Rijndael with block size=128, key sizes = 128, 192, or 256 bi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gorithm internally repeats; as key lengthens, number of iterations incre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8bit key=&gt; 10 cycles, 192bit =&gt; 12, 256bit =&gt; 1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ch faster than 3DES, longer keys</a:t>
            </a:r>
            <a:endParaRPr b="0" lang="en-US" sz="32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A568-F61A-4C0A-A418-69E8D405AA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Cloud 26"/>
          <p:cNvSpPr/>
          <p:nvPr/>
        </p:nvSpPr>
        <p:spPr>
          <a:xfrm>
            <a:off x="3772080" y="3276720"/>
            <a:ext cx="1371600" cy="2678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exchang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e partial information so communicating parties establish shared secret without exposure (parties might not authenticate!)</a:t>
            </a:r>
            <a:endParaRPr b="0" lang="en-US" sz="28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045D-E24F-49E5-88B9-4BB14AF41C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4" name="Rectangle 4"/>
          <p:cNvSpPr/>
          <p:nvPr/>
        </p:nvSpPr>
        <p:spPr>
          <a:xfrm>
            <a:off x="1676520" y="4343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ice</a:t>
            </a:r>
            <a:endParaRPr b="0" lang="en-US" sz="1800" spc="-1" strike="noStrike">
              <a:solidFill>
                <a:srgbClr val="000000"/>
              </a:solidFill>
              <a:latin typeface="Arial"/>
            </a:endParaRPr>
          </a:p>
        </p:txBody>
      </p:sp>
      <p:sp>
        <p:nvSpPr>
          <p:cNvPr id="105" name="Rectangle 6"/>
          <p:cNvSpPr/>
          <p:nvPr/>
        </p:nvSpPr>
        <p:spPr>
          <a:xfrm>
            <a:off x="5715000" y="4343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ob</a:t>
            </a:r>
            <a:endParaRPr b="0" lang="en-US" sz="1800" spc="-1" strike="noStrike">
              <a:solidFill>
                <a:srgbClr val="000000"/>
              </a:solidFill>
              <a:latin typeface="Arial"/>
            </a:endParaRPr>
          </a:p>
        </p:txBody>
      </p:sp>
      <p:cxnSp>
        <p:nvCxnSpPr>
          <p:cNvPr id="106" name="Straight Arrow Connector 7"/>
          <p:cNvCxnSpPr>
            <a:stCxn id="104" idx="3"/>
            <a:endCxn id="105" idx="1"/>
          </p:cNvCxnSpPr>
          <p:nvPr/>
        </p:nvCxnSpPr>
        <p:spPr>
          <a:xfrm>
            <a:off x="3200040" y="4686120"/>
            <a:ext cx="2515320" cy="1080"/>
          </a:xfrm>
          <a:prstGeom prst="straightConnector1">
            <a:avLst/>
          </a:prstGeom>
          <a:ln w="25560">
            <a:solidFill>
              <a:srgbClr val="000000"/>
            </a:solidFill>
            <a:miter/>
            <a:headEnd len="med" type="arrow" w="med"/>
            <a:tailEnd len="med" type="arrow" w="med"/>
          </a:ln>
        </p:spPr>
      </p:cxnSp>
      <p:sp>
        <p:nvSpPr>
          <p:cNvPr id="107" name="TextBox 29"/>
          <p:cNvSpPr/>
          <p:nvPr/>
        </p:nvSpPr>
        <p:spPr>
          <a:xfrm>
            <a:off x="3593160" y="4687920"/>
            <a:ext cx="17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
        <p:nvSpPr>
          <p:cNvPr id="108" name="TextBox 18"/>
          <p:cNvSpPr/>
          <p:nvPr/>
        </p:nvSpPr>
        <p:spPr>
          <a:xfrm>
            <a:off x="5758920" y="5181480"/>
            <a:ext cx="27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amp; unrevealed key</a:t>
            </a:r>
            <a:endParaRPr b="0" lang="en-US" sz="1800" spc="-1" strike="noStrike">
              <a:solidFill>
                <a:srgbClr val="000000"/>
              </a:solidFill>
              <a:latin typeface="Arial"/>
            </a:endParaRPr>
          </a:p>
        </p:txBody>
      </p:sp>
      <p:sp>
        <p:nvSpPr>
          <p:cNvPr id="109" name="TextBox 18"/>
          <p:cNvSpPr/>
          <p:nvPr/>
        </p:nvSpPr>
        <p:spPr>
          <a:xfrm>
            <a:off x="550440" y="5181480"/>
            <a:ext cx="27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amp; unrevealed k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e-Hellman key exchang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ka “Diffie–Hellman–Merkle” key exchan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rst published in 197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ows two parties, without prior knowledge, to jointly establish a shared secret key over an insecure communications channe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can then be used to encrypt subsequent communications using a symmetric key ciph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es </a:t>
            </a:r>
            <a:r>
              <a:rPr b="0" i="1" lang="en-US" sz="2000" spc="-1" strike="noStrike">
                <a:solidFill>
                  <a:srgbClr val="000000"/>
                </a:solidFill>
                <a:latin typeface="Calibri"/>
              </a:rPr>
              <a:t>not</a:t>
            </a:r>
            <a:r>
              <a:rPr b="0" lang="en-US" sz="2000" spc="-1" strike="noStrike">
                <a:solidFill>
                  <a:srgbClr val="000000"/>
                </a:solidFill>
                <a:latin typeface="Calibri"/>
              </a:rPr>
              <a:t> authenticate (vulnerable to man-in-the-middle) by itself, but other mechanisms can be used to address thi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d in Transport Layer Security (TLS) ephemeral modes (EDH or DHE) to provide perfect forward secrec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ect forward secrecy = each session generates random public keys without using a deterministic algorithm.  Thus, if a session key is compromised, newer &amp; older session keys are not</a:t>
            </a:r>
            <a:endParaRPr b="0" lang="en-US" sz="20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BBE4-B063-4E2E-8051-8F2302A2A0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e-Hellman illustrated</a:t>
            </a:r>
            <a:endParaRPr b="0" lang="en-US" sz="4400" spc="-1" strike="noStrike">
              <a:solidFill>
                <a:srgbClr val="000000"/>
              </a:solidFill>
              <a:latin typeface="Calibri"/>
            </a:endParaRPr>
          </a:p>
        </p:txBody>
      </p:sp>
      <p:sp>
        <p:nvSpPr>
          <p:cNvPr id="114" name=""/>
          <p:cNvSpPr txBox="1"/>
          <p:nvPr/>
        </p:nvSpPr>
        <p:spPr>
          <a:xfrm>
            <a:off x="4800240" y="1600200"/>
            <a:ext cx="38862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ice and Bob exchange their secret colors (representing numbers) via public transport </a:t>
            </a:r>
            <a:r>
              <a:rPr b="0" i="1" lang="en-US" sz="2500" spc="-1" strike="noStrike">
                <a:solidFill>
                  <a:srgbClr val="000000"/>
                </a:solidFill>
                <a:latin typeface="Calibri"/>
              </a:rPr>
              <a:t>only</a:t>
            </a:r>
            <a:r>
              <a:rPr b="0" lang="en-US" sz="2500" spc="-1" strike="noStrike">
                <a:solidFill>
                  <a:srgbClr val="000000"/>
                </a:solidFill>
                <a:latin typeface="Calibri"/>
              </a:rPr>
              <a:t> as a mix</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riginal version of D-H uses multiplicative group of integers modulo p</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https://en.wikipedia.org/ wiki/Diffie%E2%80%93Hellman_key_exchange as of 2014-04-16</a:t>
            </a:r>
            <a:endParaRPr b="0" lang="en-US" sz="16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22F8-5359-435C-9C4D-4A4E55A895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2" descr="Illustration of the Diffie–Hellman Key Exchange"/>
          <p:cNvPicPr/>
          <p:nvPr/>
        </p:nvPicPr>
        <p:blipFill>
          <a:blip r:embed="rId1"/>
          <a:stretch/>
        </p:blipFill>
        <p:spPr>
          <a:xfrm>
            <a:off x="838080" y="1600200"/>
            <a:ext cx="3009960" cy="45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ve25519</a:t>
            </a:r>
            <a:endParaRPr b="0" lang="en-US" sz="4400" spc="-1" strike="noStrike">
              <a:solidFill>
                <a:srgbClr val="000000"/>
              </a:solidFill>
              <a:latin typeface="Calibri"/>
            </a:endParaRPr>
          </a:p>
        </p:txBody>
      </p:sp>
      <p:sp>
        <p:nvSpPr>
          <p:cNvPr id="118"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veloped by D. J. Bernstei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tended to be “a state-of-the-art Diffie-Hellman func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Given a user's 32-byte secret key, Curve25519 computes the user's 32-byte public ke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Given user's 32-byte secret key and another user's 32-byte public key, Curve25519 computes a 32-byte secret shared by the two users. This secret can then be used to authenticate and encrypt messages between the two user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ased on elliptic-curve cryptograph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d25519 is a related public-key elliptic-curve signature syste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ore info: “Curve25519: new Diffie-Hellman speed records” by Daniel J. Bernstein, http://cr.yp.to/ecdh.html </a:t>
            </a:r>
            <a:endParaRPr b="0" lang="en-US" sz="25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DD01-DB89-4A68-BC77-8DA37E4061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Cloud 26"/>
          <p:cNvSpPr/>
          <p:nvPr/>
        </p:nvSpPr>
        <p:spPr>
          <a:xfrm>
            <a:off x="3772080" y="3276720"/>
            <a:ext cx="1371600" cy="2678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ymmetric (public key) encryption/decryption</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ymmetric encryption/decryption algorithms use two different values (“keys”) to encrypt and later decrypt</a:t>
            </a:r>
            <a:endParaRPr b="0" lang="en-US" sz="32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23CE-2B62-4360-B3B3-B9B4432C88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Rectangle 4"/>
          <p:cNvSpPr/>
          <p:nvPr/>
        </p:nvSpPr>
        <p:spPr>
          <a:xfrm>
            <a:off x="1676520" y="4343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crypt</a:t>
            </a:r>
            <a:endParaRPr b="0" lang="en-US" sz="1800" spc="-1" strike="noStrike">
              <a:solidFill>
                <a:srgbClr val="000000"/>
              </a:solidFill>
              <a:latin typeface="Arial"/>
            </a:endParaRPr>
          </a:p>
        </p:txBody>
      </p:sp>
      <p:sp>
        <p:nvSpPr>
          <p:cNvPr id="125" name="Rectangle 6"/>
          <p:cNvSpPr/>
          <p:nvPr/>
        </p:nvSpPr>
        <p:spPr>
          <a:xfrm>
            <a:off x="5715000" y="4343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crypt</a:t>
            </a:r>
            <a:endParaRPr b="0" lang="en-US" sz="1800" spc="-1" strike="noStrike">
              <a:solidFill>
                <a:srgbClr val="000000"/>
              </a:solidFill>
              <a:latin typeface="Arial"/>
            </a:endParaRPr>
          </a:p>
        </p:txBody>
      </p:sp>
      <p:cxnSp>
        <p:nvCxnSpPr>
          <p:cNvPr id="126" name="Straight Arrow Connector 7"/>
          <p:cNvCxnSpPr>
            <a:stCxn id="124" idx="3"/>
            <a:endCxn id="125" idx="1"/>
          </p:cNvCxnSpPr>
          <p:nvPr/>
        </p:nvCxnSpPr>
        <p:spPr>
          <a:xfrm>
            <a:off x="3200040" y="4686120"/>
            <a:ext cx="2515320" cy="1080"/>
          </a:xfrm>
          <a:prstGeom prst="straightConnector1">
            <a:avLst/>
          </a:prstGeom>
          <a:ln w="25560">
            <a:solidFill>
              <a:srgbClr val="000000"/>
            </a:solidFill>
            <a:miter/>
            <a:tailEnd len="med" type="arrow" w="med"/>
          </a:ln>
        </p:spPr>
      </p:cxnSp>
      <p:cxnSp>
        <p:nvCxnSpPr>
          <p:cNvPr id="127" name="Straight Arrow Connector 9"/>
          <p:cNvCxnSpPr>
            <a:endCxn id="124" idx="1"/>
          </p:cNvCxnSpPr>
          <p:nvPr/>
        </p:nvCxnSpPr>
        <p:spPr>
          <a:xfrm flipV="1">
            <a:off x="418680" y="4686120"/>
            <a:ext cx="1258200" cy="2160"/>
          </a:xfrm>
          <a:prstGeom prst="straightConnector1">
            <a:avLst/>
          </a:prstGeom>
          <a:ln w="25560">
            <a:solidFill>
              <a:srgbClr val="000000"/>
            </a:solidFill>
            <a:miter/>
            <a:tailEnd len="med" type="arrow" w="med"/>
          </a:ln>
        </p:spPr>
      </p:cxnSp>
      <p:cxnSp>
        <p:nvCxnSpPr>
          <p:cNvPr id="128" name="Straight Arrow Connector 11"/>
          <p:cNvCxnSpPr>
            <a:stCxn id="125" idx="3"/>
          </p:cNvCxnSpPr>
          <p:nvPr/>
        </p:nvCxnSpPr>
        <p:spPr>
          <a:xfrm>
            <a:off x="7238880" y="4686480"/>
            <a:ext cx="1410480" cy="2160"/>
          </a:xfrm>
          <a:prstGeom prst="straightConnector1">
            <a:avLst/>
          </a:prstGeom>
          <a:ln w="25560">
            <a:solidFill>
              <a:srgbClr val="000000"/>
            </a:solidFill>
            <a:miter/>
            <a:tailEnd len="med" type="arrow" w="med"/>
          </a:ln>
        </p:spPr>
      </p:cxnSp>
      <p:cxnSp>
        <p:nvCxnSpPr>
          <p:cNvPr id="129" name="Straight Arrow Connector 13"/>
          <p:cNvCxnSpPr>
            <a:endCxn id="124" idx="0"/>
          </p:cNvCxnSpPr>
          <p:nvPr/>
        </p:nvCxnSpPr>
        <p:spPr>
          <a:xfrm>
            <a:off x="2437920" y="3809880"/>
            <a:ext cx="1080" cy="534240"/>
          </a:xfrm>
          <a:prstGeom prst="straightConnector1">
            <a:avLst/>
          </a:prstGeom>
          <a:ln w="25560">
            <a:solidFill>
              <a:srgbClr val="000000"/>
            </a:solidFill>
            <a:miter/>
            <a:tailEnd len="med" type="arrow" w="med"/>
          </a:ln>
        </p:spPr>
      </p:cxnSp>
      <p:cxnSp>
        <p:nvCxnSpPr>
          <p:cNvPr id="130" name="Straight Arrow Connector 17"/>
          <p:cNvCxnSpPr/>
          <p:nvPr/>
        </p:nvCxnSpPr>
        <p:spPr>
          <a:xfrm>
            <a:off x="6552720" y="3660840"/>
            <a:ext cx="1080" cy="682920"/>
          </a:xfrm>
          <a:prstGeom prst="straightConnector1">
            <a:avLst/>
          </a:prstGeom>
          <a:ln w="25560">
            <a:solidFill>
              <a:srgbClr val="000000"/>
            </a:solidFill>
            <a:miter/>
            <a:tailEnd len="med" type="arrow" w="med"/>
          </a:ln>
        </p:spPr>
      </p:cxnSp>
      <p:sp>
        <p:nvSpPr>
          <p:cNvPr id="131" name="TextBox 20"/>
          <p:cNvSpPr/>
          <p:nvPr/>
        </p:nvSpPr>
        <p:spPr>
          <a:xfrm>
            <a:off x="1610640" y="3440160"/>
            <a:ext cx="167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ion key</a:t>
            </a:r>
            <a:endParaRPr b="0" lang="en-US" sz="1800" spc="-1" strike="noStrike">
              <a:solidFill>
                <a:srgbClr val="000000"/>
              </a:solidFill>
              <a:latin typeface="Arial"/>
            </a:endParaRPr>
          </a:p>
        </p:txBody>
      </p:sp>
      <p:sp>
        <p:nvSpPr>
          <p:cNvPr id="132" name="TextBox 27"/>
          <p:cNvSpPr/>
          <p:nvPr/>
        </p:nvSpPr>
        <p:spPr>
          <a:xfrm>
            <a:off x="312120" y="466092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intext</a:t>
            </a:r>
            <a:endParaRPr b="0" lang="en-US" sz="1800" spc="-1" strike="noStrike">
              <a:solidFill>
                <a:srgbClr val="000000"/>
              </a:solidFill>
              <a:latin typeface="Arial"/>
            </a:endParaRPr>
          </a:p>
        </p:txBody>
      </p:sp>
      <p:sp>
        <p:nvSpPr>
          <p:cNvPr id="133" name="TextBox 28"/>
          <p:cNvSpPr/>
          <p:nvPr/>
        </p:nvSpPr>
        <p:spPr>
          <a:xfrm>
            <a:off x="7416000" y="470376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intext</a:t>
            </a:r>
            <a:endParaRPr b="0" lang="en-US" sz="1800" spc="-1" strike="noStrike">
              <a:solidFill>
                <a:srgbClr val="000000"/>
              </a:solidFill>
              <a:latin typeface="Arial"/>
            </a:endParaRPr>
          </a:p>
        </p:txBody>
      </p:sp>
      <p:sp>
        <p:nvSpPr>
          <p:cNvPr id="134" name="TextBox 29"/>
          <p:cNvSpPr/>
          <p:nvPr/>
        </p:nvSpPr>
        <p:spPr>
          <a:xfrm>
            <a:off x="3591360" y="4687920"/>
            <a:ext cx="1767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pher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 text)</a:t>
            </a:r>
            <a:endParaRPr b="0" lang="en-US" sz="1800" spc="-1" strike="noStrike">
              <a:solidFill>
                <a:srgbClr val="000000"/>
              </a:solidFill>
              <a:latin typeface="Arial"/>
            </a:endParaRPr>
          </a:p>
        </p:txBody>
      </p:sp>
      <p:sp>
        <p:nvSpPr>
          <p:cNvPr id="135" name="TextBox 18"/>
          <p:cNvSpPr/>
          <p:nvPr/>
        </p:nvSpPr>
        <p:spPr>
          <a:xfrm>
            <a:off x="5714640" y="336384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yption k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SA</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med after Rivest, Shamir, &amp; Adlema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ublic key crypto based on difficulty of factoring into prime number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blic key &amp; private ke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ryption &amp; decryption raise “message” by large exponen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tent released/expired in 2000</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n’t use RSA keys &lt; 1024 bits; 2048+ bett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 August 14, 2012, Microsoft issued update to Windows XP &amp; later to block RSA keys &lt;1024 bits</a:t>
            </a:r>
            <a:endParaRPr b="0" lang="en-US" sz="26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D32C-5081-4A95-816B-C1B14B5EA9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liptic curve cryptography (ECC)</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gorithms based on elliptic curves presume it’s infeasible to find the discrete logarithm of a random elliptic curve element, w.r.t. a publicly known base poi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is “elliptic curve discrete logarithm problem” (ECDLP)</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maller key size for equivalent protection, e.g., 256 ECC key ~ 3072 bit RSA ke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veloped in 1985 by Neal Koblitz and Victor Mille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y general approach, many algorithms based on EC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ro: http://arstechnica.com/security/2013/10/a-relatively-easy-to-understand-primer-on-elliptic-curve-cryptograph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veral ECC algorithms included in NSA’s suite B (a suite of encryption algorithms)</a:t>
            </a:r>
            <a:endParaRPr b="0" lang="en-US" sz="25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107B-721E-4C7B-8203-031B1DFF43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crypto algorith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ring passwords (per-user salted hash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protocols</a:t>
            </a:r>
            <a:endParaRPr b="0" lang="en-US" sz="32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A98E-07A2-4055-8649-0A74D7915A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sue: Elliptic Curve Cryptography (ECC) &amp; patents</a:t>
            </a:r>
            <a:endParaRPr b="0" lang="en-US" sz="4400" spc="-1" strike="noStrike">
              <a:solidFill>
                <a:srgbClr val="000000"/>
              </a:solidFill>
              <a:latin typeface="Calibri"/>
            </a:endParaRPr>
          </a:p>
        </p:txBody>
      </p:sp>
      <p:sp>
        <p:nvSpPr>
          <p:cNvPr id="143" name=""/>
          <p:cNvSpPr txBox="1"/>
          <p:nvPr/>
        </p:nvSpPr>
        <p:spPr>
          <a:xfrm>
            <a:off x="457200" y="1600200"/>
            <a:ext cx="822960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ent concerns are primary inhibitor of ECC us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C application </a:t>
            </a:r>
            <a:r>
              <a:rPr b="0" i="1" lang="en-US" sz="1800" spc="-1" strike="noStrike">
                <a:solidFill>
                  <a:srgbClr val="000000"/>
                </a:solidFill>
                <a:latin typeface="Calibri"/>
              </a:rPr>
              <a:t>may</a:t>
            </a:r>
            <a:r>
              <a:rPr b="0" lang="en-US" sz="1800" spc="-1" strike="noStrike">
                <a:solidFill>
                  <a:srgbClr val="000000"/>
                </a:solidFill>
                <a:latin typeface="Calibri"/>
              </a:rPr>
              <a:t> in some cases be inhibited in US by patents (Certico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ten unclear what’s covered (typical software patent probl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A claims: “ECC… have no general patents, though some newer elliptic curve algorithms and certain efficient implementation techniques may be covered by patents… it is the implementation technique that is patented, not the prime or representation, and there are alternative, compatible implementation techniques that are not covered by the patents…”</a:t>
            </a:r>
            <a:endParaRPr b="0" lang="en-US" sz="18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eb.archive.org/web/20130524001754/http://www.rsa.com/rsalabs/node.asp?id=2325</a:t>
            </a:r>
            <a:endParaRPr b="0" lang="en-US" sz="1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TF RFC 6090 (released 2011) describes the fundamental ECC algorithms as defined seminal references from 1994 and earlier, with the goal of allowing patent-free implementation… but patent holders can always sue anyway</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government has a license for national security us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at doesn’t help the rest of u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parties have to agree before they can use a crypto algorith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nsa.gov/business/programs/elliptic_curve.shtml</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et another example of how software patents put computer users &amp; software developers at risk &amp; </a:t>
            </a:r>
            <a:r>
              <a:rPr b="0" i="1" lang="en-US" sz="2000" spc="-1" strike="noStrike">
                <a:solidFill>
                  <a:srgbClr val="000000"/>
                </a:solidFill>
                <a:latin typeface="Calibri"/>
              </a:rPr>
              <a:t>inhibit</a:t>
            </a:r>
            <a:r>
              <a:rPr b="0" lang="en-US" sz="2000" spc="-1" strike="noStrike">
                <a:solidFill>
                  <a:srgbClr val="000000"/>
                </a:solidFill>
                <a:latin typeface="Calibri"/>
              </a:rPr>
              <a:t> innovation</a:t>
            </a:r>
            <a:endParaRPr b="0" lang="en-US" sz="20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6746-5CDA-45DF-911A-3938B7E916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ymmetric often used with symmetric algorithms</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ymmetric algorithms tend to be slow</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used to encrypt, often used with symmetric algorith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nder creates single-use “shared” key using cryptographically secure pseudo-random number gen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ared key encrypted using asymmetric algorith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ceiver receives &amp; decrypts shared ke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t of data is encrypted with (faster) symmetric algorithm using this single-use key</a:t>
            </a:r>
            <a:endParaRPr b="0" lang="en-US" sz="2600" spc="-1" strike="noStrike">
              <a:solidFill>
                <a:srgbClr val="000000"/>
              </a:solidFill>
              <a:latin typeface="Calibri"/>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E3FC4-A688-4E6C-BE46-98589FC3E7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one-way) hash function</a:t>
            </a:r>
            <a:endParaRPr b="0" lang="en-US" sz="4400" spc="-1" strike="noStrike">
              <a:solidFill>
                <a:srgbClr val="000000"/>
              </a:solidFill>
              <a:latin typeface="Calibri"/>
            </a:endParaRPr>
          </a:p>
        </p:txBody>
      </p:sp>
      <p:sp>
        <p:nvSpPr>
          <p:cNvPr id="149" name=""/>
          <p:cNvSpPr txBox="1"/>
          <p:nvPr/>
        </p:nvSpPr>
        <p:spPr>
          <a:xfrm>
            <a:off x="457200" y="1599840"/>
            <a:ext cx="8229600" cy="35053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yptographic (one-way) hash function takes arbitrary-length data &amp; generates fixed-length hash (“fingerprint”) so infeasible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other message with a given hash value (“preimage resistanc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other (modified?) message with same hash as first message (“second preimage resistanc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y two messages with same hash (“collision resistance”)</a:t>
            </a:r>
            <a:endParaRPr b="0" lang="en-US" sz="2600" spc="-1" strike="noStrike">
              <a:solidFill>
                <a:srgbClr val="000000"/>
              </a:solidFill>
              <a:latin typeface="Calibri"/>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19FC-A5CA-4178-A4EA-CC73A4F3AF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Rectangle 5"/>
          <p:cNvSpPr/>
          <p:nvPr/>
        </p:nvSpPr>
        <p:spPr>
          <a:xfrm>
            <a:off x="3079800" y="5486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ash</a:t>
            </a:r>
            <a:endParaRPr b="0" lang="en-US" sz="1800" spc="-1" strike="noStrike">
              <a:solidFill>
                <a:srgbClr val="000000"/>
              </a:solidFill>
              <a:latin typeface="Arial"/>
            </a:endParaRPr>
          </a:p>
        </p:txBody>
      </p:sp>
      <p:cxnSp>
        <p:nvCxnSpPr>
          <p:cNvPr id="152" name="Straight Arrow Connector 7"/>
          <p:cNvCxnSpPr>
            <a:stCxn id="151" idx="3"/>
          </p:cNvCxnSpPr>
          <p:nvPr/>
        </p:nvCxnSpPr>
        <p:spPr>
          <a:xfrm>
            <a:off x="4603320" y="5829120"/>
            <a:ext cx="2515320" cy="1080"/>
          </a:xfrm>
          <a:prstGeom prst="straightConnector1">
            <a:avLst/>
          </a:prstGeom>
          <a:ln w="25560">
            <a:solidFill>
              <a:srgbClr val="000000"/>
            </a:solidFill>
            <a:miter/>
            <a:tailEnd len="med" type="arrow" w="med"/>
          </a:ln>
        </p:spPr>
      </p:cxnSp>
      <p:cxnSp>
        <p:nvCxnSpPr>
          <p:cNvPr id="153" name="Straight Arrow Connector 8"/>
          <p:cNvCxnSpPr>
            <a:endCxn id="151" idx="1"/>
          </p:cNvCxnSpPr>
          <p:nvPr/>
        </p:nvCxnSpPr>
        <p:spPr>
          <a:xfrm flipV="1">
            <a:off x="1821960" y="5829120"/>
            <a:ext cx="1258200" cy="2160"/>
          </a:xfrm>
          <a:prstGeom prst="straightConnector1">
            <a:avLst/>
          </a:prstGeom>
          <a:ln w="25560">
            <a:solidFill>
              <a:srgbClr val="000000"/>
            </a:solidFill>
            <a:miter/>
            <a:tailEnd len="med" type="arrow" w="med"/>
          </a:ln>
        </p:spPr>
      </p:cxnSp>
      <p:sp>
        <p:nvSpPr>
          <p:cNvPr id="154" name="TextBox 27"/>
          <p:cNvSpPr/>
          <p:nvPr/>
        </p:nvSpPr>
        <p:spPr>
          <a:xfrm>
            <a:off x="1715400" y="580392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endParaRPr b="0" lang="en-US" sz="1800" spc="-1" strike="noStrike">
              <a:solidFill>
                <a:srgbClr val="000000"/>
              </a:solidFill>
              <a:latin typeface="Arial"/>
            </a:endParaRPr>
          </a:p>
        </p:txBody>
      </p:sp>
      <p:sp>
        <p:nvSpPr>
          <p:cNvPr id="155" name="TextBox 29"/>
          <p:cNvSpPr/>
          <p:nvPr/>
        </p:nvSpPr>
        <p:spPr>
          <a:xfrm>
            <a:off x="5005440" y="5830920"/>
            <a:ext cx="341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yptographic has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gerprint, digest) – fixed wid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Hash</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all goal: Adversary can’t replace or modify data without changing fingerpri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us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rifying integrity – just store fingerprint, verify by recomputing to ensure unchanged/expect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gital signing – Use private key to “encrypt” fingerprint; anyone can use public key to verif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le id – e.g., CM system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ing “random” valu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ssword storage (“per-user salted hashes”)</a:t>
            </a:r>
            <a:endParaRPr b="0" lang="en-US" sz="2600" spc="-1" strike="noStrike">
              <a:solidFill>
                <a:srgbClr val="000000"/>
              </a:solidFill>
              <a:latin typeface="Calibri"/>
            </a:endParaRPr>
          </a:p>
        </p:txBody>
      </p:sp>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210E-22C8-432B-B757-382FC23F88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hash algorithms: MD5, SHA-1, SHA-2</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D5: Was widely used, but now brok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1: Many moved to it, still widely us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yptanalysis work in 2004 found important weaknes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mmendation: gradually move from i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y: SHA-224, SHA-256, SHA-384, SHA-512</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imilarities with SHA-1 raised concerns</a:t>
            </a:r>
            <a:endParaRPr b="0" lang="en-US" sz="2800" spc="-1" strike="noStrike">
              <a:solidFill>
                <a:srgbClr val="000000"/>
              </a:solidFill>
              <a:latin typeface="Calibri"/>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F9A9-6041-4D2E-836A-66323C2878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hash algorithms: SHA-3</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ST announced on November 2, 2007 a public competition to develop a new cryptographic hash algorithm, SHA-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ST received sixty-four entries from cryptographers around the world by October 31, 200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ST announced Keccak as the winner of the SHA-3 competition on October 2, 2012</a:t>
            </a:r>
            <a:endParaRPr b="0" lang="en-US" sz="32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8BF6-8841-416F-882B-9EABADE724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cycles of popular crytographic hashes (Valerie Aurora)</a:t>
            </a:r>
            <a:endParaRPr b="0" lang="en-US" sz="44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262B-108E-49FE-A83F-323158CFAC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67" name=""/>
          <p:cNvGraphicFramePr/>
          <p:nvPr/>
        </p:nvGraphicFramePr>
        <p:xfrm>
          <a:off x="914400" y="1676520"/>
          <a:ext cx="6143760" cy="4114800"/>
        </p:xfrm>
        <a:graphic>
          <a:graphicData uri="http://schemas.openxmlformats.org/drawingml/2006/table">
            <a:tbl>
              <a:tblPr/>
              <a:tblGrid>
                <a:gridCol w="110952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gridCol w="218880"/>
              </a:tblGrid>
              <a:tr h="82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2</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3</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4</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6</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7</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8</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9</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2</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3</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4</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6</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7</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9</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2</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nefru</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4</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2</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EMD</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AL-128</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EMD-128</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EMD-16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274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2 family</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4568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3 (Keccak)</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r>
            </a:tbl>
          </a:graphicData>
        </a:graphic>
      </p:graphicFrame>
      <p:graphicFrame>
        <p:nvGraphicFramePr>
          <p:cNvPr id="168" name=""/>
          <p:cNvGraphicFramePr/>
          <p:nvPr/>
        </p:nvGraphicFramePr>
        <p:xfrm>
          <a:off x="152280" y="5943600"/>
          <a:ext cx="4953240" cy="577800"/>
        </p:xfrm>
        <a:graphic>
          <a:graphicData uri="http://schemas.openxmlformats.org/drawingml/2006/table">
            <a:tbl>
              <a:tblPr/>
              <a:tblGrid>
                <a:gridCol w="533520"/>
                <a:gridCol w="1090440"/>
                <a:gridCol w="1347840"/>
                <a:gridCol w="990720"/>
                <a:gridCol w="990720"/>
              </a:tblGrid>
              <a:tr h="577800">
                <a:tc>
                  <a: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broken</a:t>
                      </a:r>
                      <a:endParaRPr b="0" lang="en-US" sz="1600" spc="-1" strike="noStrike">
                        <a:solidFill>
                          <a:srgbClr val="000000"/>
                        </a:solidFill>
                        <a:latin typeface="Arial"/>
                      </a:endParaRPr>
                    </a:p>
                  </a:txBody>
                  <a:tcPr anchor="ctr" marL="90000" marR="90000">
                    <a:lnL>
                      <a:noFill/>
                    </a:lnL>
                    <a:lnR>
                      <a:noFill/>
                    </a:lnR>
                    <a:lnT>
                      <a:noFill/>
                    </a:lnT>
                    <a:lnB>
                      <a:noFill/>
                    </a:lnB>
                    <a:solidFill>
                      <a:srgbClr val="90ee90"/>
                    </a:solidFill>
                  </a:tcPr>
                </a:tc>
                <a:tc>
                  <a: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akened</a:t>
                      </a:r>
                      <a:endParaRPr b="0" lang="en-US" sz="1600" spc="-1" strike="noStrike">
                        <a:solidFill>
                          <a:srgbClr val="000000"/>
                        </a:solidFill>
                        <a:latin typeface="Arial"/>
                      </a:endParaRPr>
                    </a:p>
                  </a:txBody>
                  <a:tcPr anchor="ctr" marL="90000" marR="90000">
                    <a:lnL>
                      <a:noFill/>
                    </a:lnL>
                    <a:lnR>
                      <a:noFill/>
                    </a:lnR>
                    <a:lnT>
                      <a:noFill/>
                    </a:lnT>
                    <a:lnB>
                      <a:noFill/>
                    </a:lnB>
                    <a:solidFill>
                      <a:srgbClr val="ffa500"/>
                    </a:solidFill>
                  </a:tcPr>
                </a:tc>
                <a:tc>
                  <a: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oken</a:t>
                      </a:r>
                      <a:endParaRPr b="0" lang="en-US" sz="1600" spc="-1" strike="noStrike">
                        <a:solidFill>
                          <a:srgbClr val="000000"/>
                        </a:solidFill>
                        <a:latin typeface="Arial"/>
                      </a:endParaRPr>
                    </a:p>
                  </a:txBody>
                  <a:tcPr anchor="ctr" marL="90000" marR="90000">
                    <a:lnL>
                      <a:noFill/>
                    </a:lnL>
                    <a:lnR>
                      <a:noFill/>
                    </a:lnR>
                    <a:lnT>
                      <a:noFill/>
                    </a:lnT>
                    <a:lnB>
                      <a:noFill/>
                    </a:lnB>
                    <a:solidFill>
                      <a:srgbClr val="ff0000"/>
                    </a:solidFill>
                  </a:tcPr>
                </a:tc>
                <a:tc>
                  <a: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pre-cated</a:t>
                      </a:r>
                      <a:endParaRPr b="0" lang="en-US" sz="1600" spc="-1" strike="noStrike">
                        <a:solidFill>
                          <a:srgbClr val="000000"/>
                        </a:solidFill>
                        <a:latin typeface="Arial"/>
                      </a:endParaRPr>
                    </a:p>
                  </a:txBody>
                  <a:tcPr anchor="ctr" marL="90000" marR="90000">
                    <a:lnL>
                      <a:noFill/>
                    </a:lnL>
                    <a:lnR>
                      <a:noFill/>
                    </a:lnR>
                    <a:lnT>
                      <a:noFill/>
                    </a:lnT>
                    <a:lnB>
                      <a:noFill/>
                    </a:lnB>
                    <a:solidFill>
                      <a:srgbClr val="a6a6a6"/>
                    </a:solidFill>
                  </a:tcPr>
                </a:tc>
              </a:tr>
            </a:tbl>
          </a:graphicData>
        </a:graphic>
      </p:graphicFrame>
      <p:sp>
        <p:nvSpPr>
          <p:cNvPr id="169" name="TextBox 6"/>
          <p:cNvSpPr/>
          <p:nvPr/>
        </p:nvSpPr>
        <p:spPr>
          <a:xfrm>
            <a:off x="5334480" y="5950080"/>
            <a:ext cx="36997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Lifecycles of popular crytographic hash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rie Auror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valerieaurora.org/hash.html</a:t>
            </a:r>
            <a:endParaRPr b="0" lang="en-US" sz="1200" spc="-1" strike="noStrike">
              <a:solidFill>
                <a:srgbClr val="000000"/>
              </a:solidFill>
              <a:latin typeface="Arial"/>
            </a:endParaRPr>
          </a:p>
        </p:txBody>
      </p:sp>
      <p:sp>
        <p:nvSpPr>
          <p:cNvPr id="170" name="TextBox 1"/>
          <p:cNvSpPr/>
          <p:nvPr/>
        </p:nvSpPr>
        <p:spPr>
          <a:xfrm>
            <a:off x="7315200" y="1676520"/>
            <a:ext cx="172728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2004 Xiaoyun Wang et al. published “Collisions for Hash Functions MD4, MD5, HAVAL-128 and RIPE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EMD-128 is only 128-bit, “irresponsible based on sheer digest length” because at best it’s 2^64 complexity to brea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to stages in the life cycle of cryptographic hash functions</a:t>
            </a:r>
            <a:endParaRPr b="0" lang="en-US" sz="44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A0FA-F417-44CA-ABE4-0C996FD9AA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73" name=""/>
          <p:cNvGraphicFramePr/>
          <p:nvPr/>
        </p:nvGraphicFramePr>
        <p:xfrm>
          <a:off x="228600" y="1523880"/>
          <a:ext cx="8381880" cy="4694400"/>
        </p:xfrm>
        <a:graphic>
          <a:graphicData uri="http://schemas.openxmlformats.org/drawingml/2006/table">
            <a:tbl>
              <a:tblPr/>
              <a:tblGrid>
                <a:gridCol w="1488960"/>
                <a:gridCol w="2036880"/>
                <a:gridCol w="2349360"/>
                <a:gridCol w="2506680"/>
              </a:tblGrid>
              <a:tr h="3114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g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ert reac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grammer reac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n-expert ("slashdotter") reac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itial propos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kepticism, don't recommend use in practic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ait to hear from the experts before adding to OpenSS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HA-wh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eer review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dd8e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derate effort to find holes and garner an easy public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sed by a particularly adventurous developers for specific purpos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me-drop the hash at cocktail parties to impress other geek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General acceptanc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0ee9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p-level researchers begin serious work on finding a weakness (and international fa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ven Microsoft is using the hash function no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lame anyone who suggests the function may be broken in our lifeti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or weakness discover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ssive downloads of turgid pre-prints from arXiv, calls for new hash funct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art reviewing other hash functions for replaceme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ng semi-mathematical posts comparing the complexity of the attack to the number of protons in the univers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erious weakness discover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5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nsion-filled CRYPTO rump sessions! A full break is considered inevitabl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grate to new hash functions immediately, where necessar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oint out that no actual collisions have been fou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First collision fou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cork the champagne! Interest in the details of the construction, but no surpris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ather around a co-worker's computer, comparing the colliding inputs and running the hash function on the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plain why a simple collision attack is still useless, it's really the second pre-image attack that count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eaningful collisions generated on home comput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w adorable! I'm busy trying to break this new hash function, thoug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nd each other colliding X.509 certificates as prank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ll people at parties that you always knew it would be brok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llisions generated by ha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morize as fun party trick for next faculty mix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oggl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y to remember how to do long division by ha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89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ssumed to be weak but no one bothers to break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 one is getting a publication out of breaking this </a:t>
                      </a:r>
                      <a:r>
                        <a:rPr b="0" lang="en-US" sz="1000" spc="-1" strike="noStrike">
                          <a:solidFill>
                            <a:srgbClr val="000000"/>
                          </a:solidFill>
                          <a:latin typeface="Calibri"/>
                        </a:rPr>
                        <a:t>	</a:t>
                      </a: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s this crypto library function for?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pdate Pokemon Wikipedia pag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4" name="TextBox 7"/>
          <p:cNvSpPr/>
          <p:nvPr/>
        </p:nvSpPr>
        <p:spPr>
          <a:xfrm>
            <a:off x="304920" y="647712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Lifecycles of popular crytographic hashes”, Valerie Aurora, http://valerieaurora.org/hash.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algorithms are often (eventually) broken</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yptanalysis is an active field</a:t>
            </a:r>
            <a:endParaRPr b="0" lang="en-US" sz="30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times advances lead to weakening/break in algorithms… even ones considered secure before</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fecycles of cryptographic hashes good illustration</a:t>
            </a:r>
            <a:endParaRPr b="0" lang="en-US" sz="26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ke sure you can change algorithms!</a:t>
            </a:r>
            <a:endParaRPr b="0" lang="en-US" sz="30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s should </a:t>
            </a:r>
            <a:r>
              <a:rPr b="0" i="1" lang="en-US" sz="2600" spc="-1" strike="noStrike">
                <a:solidFill>
                  <a:srgbClr val="000000"/>
                </a:solidFill>
                <a:latin typeface="Calibri"/>
              </a:rPr>
              <a:t>not</a:t>
            </a:r>
            <a:r>
              <a:rPr b="0" lang="en-US" sz="2600" spc="-1" strike="noStrike">
                <a:solidFill>
                  <a:srgbClr val="000000"/>
                </a:solidFill>
                <a:latin typeface="Calibri"/>
              </a:rPr>
              <a:t> assume that crypto algorithms never change</a:t>
            </a:r>
            <a:endParaRPr b="0" lang="en-US" sz="26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st to have at least two algorithms implemented</a:t>
            </a:r>
            <a:endParaRPr b="0" lang="en-US" sz="30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you can switch away from “broken” one</a:t>
            </a:r>
            <a:endParaRPr b="0" lang="en-US" sz="2600" spc="-1" strike="noStrike">
              <a:solidFill>
                <a:srgbClr val="000000"/>
              </a:solidFill>
              <a:latin typeface="Calibri"/>
            </a:endParaRPr>
          </a:p>
        </p:txBody>
      </p:sp>
      <p:sp>
        <p:nvSpPr>
          <p:cNvPr id="1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77D38-EBB0-47C3-AA8E-1FC5F025FD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SA &amp; DH: Some concerns</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cerns about RSA &amp; Diffie-Hellman (DH) raised at Black Hat 2013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A and DH underpinned by difficulty of “discrete logarithm probl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nch academic Antoine Joux published two papers suggesting an algorithm to break it could be found before lo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Our conclusion is there is a small but definite chance that RSA and classic Diffie-Hellman will not be usable for encryption purposes in four to five years” - Alex Stamos, chief technology officer, Artemi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RSA protocol that is the foundation of security on the Internet is likely to be broken in the very near future,” Philippe Courtot, CEO of Qualy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www.technologyreview.com/news/517781/math-advances-raise-the-prospect-of-an-internet-security-crisis/</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liptic Curve Cryptography (ECC) techniques availabl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y be inhibited in US by Certicom patents (patents vs. security), as noted earlier</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evidence NIST will start a new public key crypto competition – why?!?</a:t>
            </a:r>
            <a:endParaRPr b="0" lang="en-US" sz="2000" spc="-1" strike="noStrike">
              <a:solidFill>
                <a:srgbClr val="000000"/>
              </a:solidFill>
              <a:latin typeface="Calibri"/>
            </a:endParaRPr>
          </a:p>
        </p:txBody>
      </p:sp>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2A8A-F379-42BB-9CC3-857AA5D152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y &amp; Cryptanalysi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yptography = the science (or art) of transforming intelligible data to an unintelligible form, and its inverse transforma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ans “Secret writing”</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yptanalysis = the science (or art) of undoing the cryptographic transformation without (exact) knowledge of how that transformation was initially execu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ll focus on cryptography (defense), emphasizing how to counter cryptanalysis (attack)</a:t>
            </a:r>
            <a:endParaRPr b="0" lang="en-US" sz="30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0B7A-33F2-429F-B07F-DA80699BE9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 what you check</a:t>
            </a:r>
            <a:br>
              <a:rPr sz="4400"/>
            </a:br>
            <a:r>
              <a:rPr b="0" lang="en-US" sz="4400" spc="-1" strike="noStrike">
                <a:solidFill>
                  <a:srgbClr val="000000"/>
                </a:solidFill>
                <a:latin typeface="Calibri"/>
              </a:rPr>
              <a:t>(Android “Master Key”)</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VE-2013-4787 / Android bug 8219321</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ported to Google by Jeff Forristal (Rain Forest Puppy)</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ckages are really “zip” archive fil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al zip files can be created where &gt;1 file can exist in a directory with same nam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e is checked for its fingerprint… but a different one is actually installed</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 stores can check for such malformed zip files</a:t>
            </a:r>
            <a:endParaRPr b="0" lang="en-US" sz="30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77C3-0532-428A-A94A-D839FC2508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pseudo-random number generator (PRNG)</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algorithms depend on secret keys or “nonce” that won’t be reus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eat way to get these is to generate a random number (if enough bi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ftware fundamentally deterministi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re can, use </a:t>
            </a:r>
            <a:r>
              <a:rPr b="0" i="1" lang="en-US" sz="2600" spc="-1" strike="noStrike">
                <a:solidFill>
                  <a:srgbClr val="000000"/>
                </a:solidFill>
                <a:latin typeface="Calibri"/>
              </a:rPr>
              <a:t>hardware</a:t>
            </a:r>
            <a:r>
              <a:rPr b="0" lang="en-US" sz="2600" spc="-1" strike="noStrike">
                <a:solidFill>
                  <a:srgbClr val="000000"/>
                </a:solidFill>
                <a:latin typeface="Calibri"/>
              </a:rPr>
              <a:t> for truly random value helpfu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t can’t always use them, or just them, or trust them</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seudo-random number generators create “random” data</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attackers cannot determine past/future values</a:t>
            </a:r>
            <a:endParaRPr b="0" lang="en-US" sz="26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C19A-370B-4504-8BDD-25C30BAE26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 </a:t>
            </a:r>
            <a:r>
              <a:rPr b="0" i="1" lang="en-US" sz="4400" spc="-1" strike="noStrike">
                <a:solidFill>
                  <a:srgbClr val="000000"/>
                </a:solidFill>
                <a:latin typeface="Calibri"/>
              </a:rPr>
              <a:t>cryptographic</a:t>
            </a:r>
            <a:r>
              <a:rPr b="0" lang="en-US" sz="4400" spc="-1" strike="noStrike">
                <a:solidFill>
                  <a:srgbClr val="000000"/>
                </a:solidFill>
                <a:latin typeface="Calibri"/>
              </a:rPr>
              <a:t> PRNG for crypto</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random” functions are easily predicted by an attack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ten implemented as linear congruential generator (LCG)</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Java Random()</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st use </a:t>
            </a:r>
            <a:r>
              <a:rPr b="0" i="1" lang="en-US" sz="2200" spc="-1" strike="noStrike">
                <a:solidFill>
                  <a:srgbClr val="000000"/>
                </a:solidFill>
                <a:latin typeface="Calibri"/>
              </a:rPr>
              <a:t>cryptographically secure </a:t>
            </a:r>
            <a:r>
              <a:rPr b="0" lang="en-US" sz="2200" spc="-1" strike="noStrike">
                <a:solidFill>
                  <a:srgbClr val="000000"/>
                </a:solidFill>
                <a:latin typeface="Calibri"/>
              </a:rPr>
              <a:t>PRNG (CSPRNG) for crypto and security-related tasks - not ones easily predicted</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SecureRandom()</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ux/Unix: read from /dev/random</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ad /dev/urandom if you just can’t wait, but urandom will return data even if it has poor randomness</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algorithms exist to implement CSPRNGs. Examples:</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arrow, Fortuna, ANSI X9.17 (which can use any block cipher, e.g., AES)</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ST SP 800-90A’s Hash_DRBG, HMAC_DRBG, and CTR_DRBG (do not use the removed algorithm Dual_EC_DRBG)</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 careful seeding them; ensure seed can’t be guessed</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of-day (current or boot) is easy to guess</a:t>
            </a:r>
            <a:endParaRPr b="0" lang="en-US" sz="2000" spc="-1" strike="noStrike">
              <a:solidFill>
                <a:srgbClr val="000000"/>
              </a:solidFill>
              <a:latin typeface="Calibri"/>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5C32-232E-4390-A648-BE2E75EB1B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al_EC_DRBG Controversy</a:t>
            </a:r>
            <a:endParaRPr b="0" lang="en-US" sz="4400" spc="-1" strike="noStrike">
              <a:solidFill>
                <a:srgbClr val="000000"/>
              </a:solidFill>
              <a:latin typeface="Calibri"/>
            </a:endParaRPr>
          </a:p>
        </p:txBody>
      </p:sp>
      <p:sp>
        <p:nvSpPr>
          <p:cNvPr id="191"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al Elliptic Curve Deterministic Random Bit Generator (Dual_EC_DRBG)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s part of NIST SP 800-90A (1 of 4 algorithm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ree orders of magnitude slower than other 3</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rown raised concerns in 2006</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n Shumow and Niels Ferguson re-raised concerns in 2007</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ward Snowden’s leaks excerpted by The New York Times led to strong suspicions that this algorithm was subverted (kleptographic attack/backdoo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A used Dual_EC_DRBG as default algorithm in its BSAFE and Data Protection Manager product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rprising choice given its poor performance &amp; the re-raised concerns in 2007</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uters reported on 2013-12-20  a $10 million deal between RSA and NSA to set Dual_EC_DRBG as the default CSPRNG in BSAFE</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ttp://www.reuters.com/article/2013/12/20/us-usa-security-rsa-idUSBRE9BJ1C220131220</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SA Security categorically denies that it entered into a secret contract with NSA to incorporate a known flawed random number generator into its BSAFE encryption libraries; much debate</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ttps://blogs.rsa.com/news-media/rsa-response/ and http://arstechnica.com/security/2013/12/rsa-issues-non-denying-denial-of-nsa-deal-to-favor-flawed-crypto-code/</a:t>
            </a:r>
            <a:endParaRPr b="0" lang="en-US" sz="13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NIST strongly recommends that, pending the resolution of the security concerns and the re-issuance of SP 800-90A, the Dual_EC_DRBG, as specified in the January 2012 version of SP 800-90A, no longer be used…. Effective immediately, NIST Special Publication 800-90A is being re-issued as a draft for public comment..”</a:t>
            </a:r>
            <a:endParaRPr b="0" lang="en-US" sz="1800" spc="-1" strike="noStrike">
              <a:solidFill>
                <a:srgbClr val="000000"/>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D004B-91AF-4375-B8E1-31CF7B5096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NG failure example:</a:t>
            </a:r>
            <a:br>
              <a:rPr sz="4400"/>
            </a:br>
            <a:r>
              <a:rPr b="0" lang="en-US" sz="4400" spc="-1" strike="noStrike">
                <a:solidFill>
                  <a:srgbClr val="000000"/>
                </a:solidFill>
                <a:latin typeface="Calibri"/>
              </a:rPr>
              <a:t>iOS 7 early_random()</a:t>
            </a:r>
            <a:endParaRPr b="0" lang="en-US" sz="4400" spc="-1" strike="noStrike">
              <a:solidFill>
                <a:srgbClr val="000000"/>
              </a:solidFill>
              <a:latin typeface="Calibri"/>
            </a:endParaRPr>
          </a:p>
        </p:txBody>
      </p:sp>
      <p:sp>
        <p:nvSpPr>
          <p:cNvPr id="194"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Apple iOS vulnerability countermeasures depend on randomness that cannot be predicted by attack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randomness-gathering mechanisms not available early in boot proces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e provides early_random() PRNG (pseudo-random number generator)</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S 7 update changed algorithm… to a horrifically-bad linear congruential generator (LCG) algorithm!</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vial to brute-force, and then determine previous/later values.  It can only produce 2^19 unique outputs, with a maximum period of 2^17, far below 2^64 output spac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An unprivileged attacker, even when confined by the most restrictive sandbox, can recover arbitrary outputs from the generator and consequently bypass all the exploit mitigations that rely on the early random PR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info:</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Revisiting iOS Kernel (In)Security: Attacking the early random() PRNG” by Tarjei Mandt, Azimuth Security http://mista.nu/research/early_random-paper.pdf - presented at CanSecWest 2014</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theregister.co.uk/2014/03/16/ios_7_has_weak_random_number_generator/</a:t>
            </a:r>
            <a:endParaRPr b="0" lang="en-US" sz="1800" spc="-1" strike="noStrike">
              <a:solidFill>
                <a:srgbClr val="000000"/>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1055-00CD-4413-B57E-02E9F738ED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 algorithm: Simple, stream, and block-level</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imple” algorithms work symbol-at-a-tim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a byte, determine what to translate that to</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ck-level algorithm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symbols together into block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lace sequence of block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ter byte in same block changes encoding of </a:t>
            </a:r>
            <a:r>
              <a:rPr b="0" i="1" lang="en-US" sz="2400" spc="-1" strike="noStrike">
                <a:solidFill>
                  <a:srgbClr val="000000"/>
                </a:solidFill>
                <a:latin typeface="Calibri"/>
              </a:rPr>
              <a:t>this</a:t>
            </a:r>
            <a:r>
              <a:rPr b="0" lang="en-US" sz="2400" spc="-1" strike="noStrike">
                <a:solidFill>
                  <a:srgbClr val="000000"/>
                </a:solidFill>
                <a:latin typeface="Calibri"/>
              </a:rPr>
              <a:t> byt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modern algorithms work this way</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am algorithm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 bit-at-a-time</a:t>
            </a:r>
            <a:endParaRPr b="0" lang="en-US" sz="2800" spc="-1" strike="noStrike">
              <a:solidFill>
                <a:srgbClr val="000000"/>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B302-FC42-4758-8FB6-9CAA0EC627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s about block algorithms</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lock encryption algorithms can be used in a number of different modes, includ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ctronic code book (ECB)</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me block of data returns the same result</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pher block chaining (CBC)</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me block of data returns different result, depending on past blocks in the same stream</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ever use ECB mode; CBC is far better than ECB</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urning same block each time often reveals too much</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modes require an “initialization vector” (IV)</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 not be secret, but must be unpredict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new IV each session; don’t reuse IVs</a:t>
            </a:r>
            <a:endParaRPr b="0" lang="en-US" sz="2400" spc="-1" strike="noStrike">
              <a:solidFill>
                <a:srgbClr val="000000"/>
              </a:solidFill>
              <a:latin typeface="Calibri"/>
            </a:endParaRPr>
          </a:p>
        </p:txBody>
      </p:sp>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87E7-7B60-43E9-8362-97221CC65E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ring passwords: Things to avoid</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storing password information to authenticate an external user:</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ver store passwords as clear text (see Son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ckers can masquerade as any user on your system &amp; many others (password reuse)</a:t>
            </a:r>
            <a:endParaRPr b="0" lang="en-US" sz="28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ring as simple hashes helps, but not much</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ckers can precalculate hashes of likely passwords (“Rainbow table”), then compa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ckers can easily see who has same passwords</a:t>
            </a:r>
            <a:endParaRPr b="0" lang="en-US" sz="2800" spc="-1" strike="noStrike">
              <a:solidFill>
                <a:srgbClr val="000000"/>
              </a:solidFill>
              <a:latin typeface="Calibri"/>
            </a:endParaRPr>
          </a:p>
        </p:txBody>
      </p:sp>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2E74-0AF0-4420-830C-9DF3849FF3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ring passwords:</a:t>
            </a:r>
            <a:br>
              <a:rPr sz="4400"/>
            </a:br>
            <a:r>
              <a:rPr b="0" lang="en-US" sz="4400" spc="-1" strike="noStrike">
                <a:solidFill>
                  <a:srgbClr val="000000"/>
                </a:solidFill>
                <a:latin typeface="Calibri"/>
              </a:rPr>
              <a:t>Basics of per-user salted hashe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ead, store passwords as per-user salted hash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sh(user “salt” + user password) for </a:t>
            </a:r>
            <a:r>
              <a:rPr b="0" i="1" lang="en-US" sz="2000" spc="-1" strike="noStrike">
                <a:solidFill>
                  <a:srgbClr val="000000"/>
                </a:solidFill>
                <a:latin typeface="Calibri"/>
              </a:rPr>
              <a:t>that</a:t>
            </a:r>
            <a:r>
              <a:rPr b="0" lang="en-US" sz="2000" spc="-1" strike="noStrike">
                <a:solidFill>
                  <a:srgbClr val="000000"/>
                </a:solidFill>
                <a:latin typeface="Calibri"/>
              </a:rPr>
              <a:t> us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different users have different salts, precomputing fai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acker can’t easily see if two users use same password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ts need to have enough random bits (NIST SP 800-132 requires 128+ bits)</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ryptographically secure pseudo-random number generator</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ts don’t need to be </a:t>
            </a:r>
            <a:r>
              <a:rPr b="0" i="1" lang="en-US" sz="2000" spc="-1" strike="noStrike">
                <a:solidFill>
                  <a:srgbClr val="000000"/>
                </a:solidFill>
                <a:latin typeface="Calibri"/>
              </a:rPr>
              <a:t>encrypted</a:t>
            </a:r>
            <a:r>
              <a:rPr b="0" lang="en-US" sz="2000" spc="-1" strike="noStrike">
                <a:solidFill>
                  <a:srgbClr val="000000"/>
                </a:solidFill>
                <a:latin typeface="Calibri"/>
              </a:rPr>
              <a:t>, just rando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secure hash functions (SHA-512, not SHA-1 or MD5)</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 user log in, just repeat proces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e if the result is the same as stored salted hash</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vents social engineering “can you tell me my password?” – because you can’t do i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make even stronger with key derivation functions…</a:t>
            </a:r>
            <a:endParaRPr b="0" lang="en-US" sz="2200" spc="-1" strike="noStrike">
              <a:solidFill>
                <a:srgbClr val="000000"/>
              </a:solidFill>
              <a:latin typeface="Calibri"/>
            </a:endParaRPr>
          </a:p>
        </p:txBody>
      </p:sp>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AD6F-7605-4266-8891-93EFFFB10C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Derivation Function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Key derivation functions” computes a </a:t>
            </a:r>
            <a:r>
              <a:rPr b="0" i="1" lang="en-US" sz="2200" spc="-1" strike="noStrike">
                <a:solidFill>
                  <a:srgbClr val="000000"/>
                </a:solidFill>
                <a:latin typeface="Calibri"/>
              </a:rPr>
              <a:t>derived</a:t>
            </a:r>
            <a:r>
              <a:rPr b="0" lang="en-US" sz="2200" spc="-1" strike="noStrike">
                <a:solidFill>
                  <a:srgbClr val="000000"/>
                </a:solidFill>
                <a:latin typeface="Calibri"/>
              </a:rPr>
              <a:t>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eatedly uses cryptographic hash, cipher, or HMAC + original data + salt to generate derived 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ing it repeatedly makes it </a:t>
            </a:r>
            <a:r>
              <a:rPr b="0" i="1" lang="en-US" sz="2000" spc="-1" strike="noStrike">
                <a:solidFill>
                  <a:srgbClr val="000000"/>
                </a:solidFill>
                <a:latin typeface="Calibri"/>
              </a:rPr>
              <a:t>intentionally slow</a:t>
            </a:r>
            <a:r>
              <a:rPr b="0" lang="en-US" sz="2000" spc="-1" strike="noStrike">
                <a:solidFill>
                  <a:srgbClr val="000000"/>
                </a:solidFill>
                <a:latin typeface="Calibri"/>
              </a:rPr>
              <a:t>, thus making password cracking more difficult for brute-force attacks (a use for key derivation functions also called “key stretching”)</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BKDF2 (Password-Based Key Derivation Function 2) commo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SA Laboratories' Public-Key Cryptography Standards (PKCS) #5 v2.0</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so RFC 2898</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Recommendation for Password-Based Key Derivation” NIST Special Publication 800-132</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ternative function: bcrypt (better counters hardware/GPU)</a:t>
            </a:r>
            <a:endParaRPr b="0" lang="en-US" sz="2200" spc="-1" strike="noStrike">
              <a:solidFill>
                <a:srgbClr val="000000"/>
              </a:solidFill>
              <a:latin typeface="Calibri"/>
            </a:endParaRPr>
          </a:p>
        </p:txBody>
      </p:sp>
      <p:sp>
        <p:nvSpPr>
          <p:cNvPr id="2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C850-6483-483F-B487-BCCD4B5860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cryptography is… and is not</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yptography is a set of tools that can </a:t>
            </a:r>
            <a:r>
              <a:rPr b="0" i="1" lang="en-US" sz="3200" spc="-1" strike="noStrike">
                <a:solidFill>
                  <a:srgbClr val="000000"/>
                </a:solidFill>
                <a:latin typeface="Calibri"/>
              </a:rPr>
              <a:t>help</a:t>
            </a:r>
            <a:r>
              <a:rPr b="0" lang="en-US" sz="3200" spc="-1" strike="noStrike">
                <a:solidFill>
                  <a:srgbClr val="000000"/>
                </a:solidFill>
                <a:latin typeface="Calibri"/>
              </a:rPr>
              <a:t> develop secure softw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mportant component </a:t>
            </a:r>
            <a:r>
              <a:rPr b="0" lang="en-US" sz="2800" spc="-1" strike="noStrike">
                <a:solidFill>
                  <a:srgbClr val="000000"/>
                </a:solidFill>
                <a:latin typeface="Calibri"/>
              </a:rPr>
              <a:t>in some cas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yptography won’t solve most security issu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yptography is </a:t>
            </a:r>
            <a:r>
              <a:rPr b="0" i="1" lang="en-US" sz="2800" spc="-1" strike="noStrike">
                <a:solidFill>
                  <a:srgbClr val="000000"/>
                </a:solidFill>
                <a:latin typeface="Calibri"/>
              </a:rPr>
              <a:t>not </a:t>
            </a:r>
            <a:r>
              <a:rPr b="0" lang="en-US" sz="2800" spc="-1" strike="noStrike">
                <a:solidFill>
                  <a:srgbClr val="000000"/>
                </a:solidFill>
                <a:latin typeface="Calibri"/>
              </a:rPr>
              <a:t>the same as developing secure softw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If you think cryptography is the answer to your problem, then you don’t know what your problem is” – Peter Neumann</a:t>
            </a:r>
            <a:endParaRPr b="0" lang="en-US" sz="28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D614-581C-4646-A59F-663D6D4BFC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ring passwords:</a:t>
            </a:r>
            <a:br>
              <a:rPr sz="4400"/>
            </a:br>
            <a:r>
              <a:rPr b="0" lang="en-US" sz="4400" spc="-1" strike="noStrike">
                <a:solidFill>
                  <a:srgbClr val="000000"/>
                </a:solidFill>
                <a:latin typeface="Calibri"/>
              </a:rPr>
              <a:t>The bare minimum</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 authenticator (e.g., server) must never store passwords in the clear. They must be </a:t>
            </a:r>
            <a:r>
              <a:rPr b="0" i="1" lang="en-US" sz="2500" spc="-1" strike="noStrike">
                <a:solidFill>
                  <a:srgbClr val="000000"/>
                </a:solidFill>
                <a:latin typeface="Calibri"/>
              </a:rPr>
              <a:t>at least</a:t>
            </a:r>
            <a:r>
              <a:rPr b="0" lang="en-US" sz="2500" spc="-1" strike="noStrike">
                <a:solidFill>
                  <a:srgbClr val="000000"/>
                </a:solidFill>
                <a:latin typeface="Calibri"/>
              </a:rPr>
              <a: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user salted hashes, each salt (different) random</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iterated key derivation (key stretching) function. PBKDF2 is weak against GPUs; better to use alternatives like bcrypt</a:t>
            </a:r>
            <a:endParaRPr b="0" lang="en-US" sz="2200" spc="-1" strike="noStrike">
              <a:solidFill>
                <a:srgbClr val="000000"/>
              </a:solidFill>
              <a:latin typeface="Calibri"/>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ss than iterated per-user salted hashes for general-purpose password authentication is </a:t>
            </a:r>
            <a:r>
              <a:rPr b="0" i="1" lang="en-US" sz="2500" spc="-1" strike="noStrike">
                <a:solidFill>
                  <a:srgbClr val="000000"/>
                </a:solidFill>
                <a:latin typeface="Calibri"/>
              </a:rPr>
              <a:t>negligence </a:t>
            </a:r>
            <a:r>
              <a:rPr b="0" lang="en-US" sz="2500" spc="-1" strike="noStrike">
                <a:solidFill>
                  <a:srgbClr val="000000"/>
                </a:solidFill>
                <a:latin typeface="Calibri"/>
              </a:rPr>
              <a:t>(in my opin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ANS “Securing Web Application Technologies” (SWAT) Checklist, Data protection section, agre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requires that you “store user passwords using a strong, iterative, salted hash</a:t>
            </a:r>
            <a:endParaRPr b="0" lang="en-US" sz="2200" spc="-1" strike="noStrike">
              <a:solidFill>
                <a:srgbClr val="000000"/>
              </a:solidFill>
              <a:latin typeface="Calibri"/>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8A6D-363C-4A0C-B17B-6A18E1A8C3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ware of client hashing password</a:t>
            </a:r>
            <a:endParaRPr b="0" lang="en-US" sz="4400" spc="-1" strike="noStrike">
              <a:solidFill>
                <a:srgbClr val="000000"/>
              </a:solidFill>
              <a:latin typeface="Calibri"/>
            </a:endParaRPr>
          </a:p>
        </p:txBody>
      </p:sp>
      <p:sp>
        <p:nvSpPr>
          <p:cNvPr id="215" name=""/>
          <p:cNvSpPr txBox="1"/>
          <p:nvPr/>
        </p:nvSpPr>
        <p:spPr>
          <a:xfrm>
            <a:off x="457200" y="1600200"/>
            <a:ext cx="464832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ual approach: Client sends normal password over encrypted chann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ually wrong for </a:t>
            </a:r>
            <a:r>
              <a:rPr b="0" i="1" lang="en-US" sz="2200" spc="-1" strike="noStrike">
                <a:solidFill>
                  <a:srgbClr val="000000"/>
                </a:solidFill>
                <a:latin typeface="Calibri"/>
              </a:rPr>
              <a:t>only</a:t>
            </a:r>
            <a:r>
              <a:rPr b="0" lang="en-US" sz="2200" spc="-1" strike="noStrike">
                <a:solidFill>
                  <a:srgbClr val="000000"/>
                </a:solidFill>
                <a:latin typeface="Calibri"/>
              </a:rPr>
              <a:t> client to create &amp; send salted has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ttacker modifies/replaces client, modified client can just repeat the hashed value on server &amp; get in</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kay to hash on </a:t>
            </a:r>
            <a:r>
              <a:rPr b="0" i="1" lang="en-US" sz="2200" spc="-1" strike="noStrike">
                <a:solidFill>
                  <a:srgbClr val="000000"/>
                </a:solidFill>
                <a:latin typeface="Calibri"/>
              </a:rPr>
              <a:t>both</a:t>
            </a:r>
            <a:r>
              <a:rPr b="0" lang="en-US" sz="2200" spc="-1" strike="noStrike">
                <a:solidFill>
                  <a:srgbClr val="000000"/>
                </a:solidFill>
                <a:latin typeface="Calibri"/>
              </a:rPr>
              <a:t> sid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shing on client end means that attacker-controlled server can’t see client’s original password (bonu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shing on server end means that attacker-controlled client can’t use stored hash to log in to this or other servers (usual purpose for hashed passwords)</a:t>
            </a:r>
            <a:endParaRPr b="0" lang="en-US" sz="2000" spc="-1" strike="noStrike">
              <a:solidFill>
                <a:srgbClr val="00000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45A4C-9FD5-4AB9-A9ED-AE7D6BC5C8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7" name="Rectangle 5"/>
          <p:cNvSpPr/>
          <p:nvPr/>
        </p:nvSpPr>
        <p:spPr>
          <a:xfrm>
            <a:off x="5008680" y="1371600"/>
            <a:ext cx="175248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ent</a:t>
            </a:r>
            <a:endParaRPr b="0" lang="en-US" sz="1800" spc="-1" strike="noStrike">
              <a:solidFill>
                <a:srgbClr val="000000"/>
              </a:solidFill>
              <a:latin typeface="Arial"/>
            </a:endParaRPr>
          </a:p>
        </p:txBody>
      </p:sp>
      <p:sp>
        <p:nvSpPr>
          <p:cNvPr id="218" name="Rectangle 7"/>
          <p:cNvSpPr/>
          <p:nvPr/>
        </p:nvSpPr>
        <p:spPr>
          <a:xfrm>
            <a:off x="6477120" y="2122560"/>
            <a:ext cx="2286000" cy="609480"/>
          </a:xfrm>
          <a:prstGeom prst="rect">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rver sto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ash(salt+Sent)</a:t>
            </a:r>
            <a:endParaRPr b="0" lang="en-US" sz="1800" spc="-1" strike="noStrike">
              <a:solidFill>
                <a:srgbClr val="000000"/>
              </a:solidFill>
              <a:latin typeface="Arial"/>
            </a:endParaRPr>
          </a:p>
        </p:txBody>
      </p:sp>
      <p:cxnSp>
        <p:nvCxnSpPr>
          <p:cNvPr id="219" name="Straight Arrow Connector 9"/>
          <p:cNvCxnSpPr>
            <a:stCxn id="217" idx="3"/>
            <a:endCxn id="218" idx="0"/>
          </p:cNvCxnSpPr>
          <p:nvPr/>
        </p:nvCxnSpPr>
        <p:spPr>
          <a:xfrm>
            <a:off x="6761160" y="1676160"/>
            <a:ext cx="859680" cy="446760"/>
          </a:xfrm>
          <a:prstGeom prst="straightConnector1">
            <a:avLst/>
          </a:prstGeom>
          <a:ln w="25560">
            <a:solidFill>
              <a:srgbClr val="4a7ebb"/>
            </a:solidFill>
            <a:miter/>
            <a:tailEnd len="med" type="arrow" w="med"/>
          </a:ln>
        </p:spPr>
      </p:cxnSp>
      <p:sp>
        <p:nvSpPr>
          <p:cNvPr id="220" name="TextBox 10"/>
          <p:cNvSpPr/>
          <p:nvPr/>
        </p:nvSpPr>
        <p:spPr>
          <a:xfrm>
            <a:off x="6881400" y="1643040"/>
            <a:ext cx="175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password</a:t>
            </a:r>
            <a:endParaRPr b="0" lang="en-US" sz="1800" spc="-1" strike="noStrike">
              <a:solidFill>
                <a:srgbClr val="000000"/>
              </a:solidFill>
              <a:latin typeface="Arial"/>
            </a:endParaRPr>
          </a:p>
        </p:txBody>
      </p:sp>
      <p:sp>
        <p:nvSpPr>
          <p:cNvPr id="221" name="Rectangle 11"/>
          <p:cNvSpPr/>
          <p:nvPr/>
        </p:nvSpPr>
        <p:spPr>
          <a:xfrm>
            <a:off x="5008680" y="3048120"/>
            <a:ext cx="175248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ent</a:t>
            </a:r>
            <a:endParaRPr b="0" lang="en-US" sz="1800" spc="-1" strike="noStrike">
              <a:solidFill>
                <a:srgbClr val="000000"/>
              </a:solidFill>
              <a:latin typeface="Arial"/>
            </a:endParaRPr>
          </a:p>
        </p:txBody>
      </p:sp>
      <p:sp>
        <p:nvSpPr>
          <p:cNvPr id="222" name="Rectangle 12"/>
          <p:cNvSpPr/>
          <p:nvPr/>
        </p:nvSpPr>
        <p:spPr>
          <a:xfrm>
            <a:off x="6456240" y="3794040"/>
            <a:ext cx="2286000" cy="609840"/>
          </a:xfrm>
          <a:prstGeom prst="rect">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rver sto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nt</a:t>
            </a:r>
            <a:endParaRPr b="0" lang="en-US" sz="1800" spc="-1" strike="noStrike">
              <a:solidFill>
                <a:srgbClr val="000000"/>
              </a:solidFill>
              <a:latin typeface="Arial"/>
            </a:endParaRPr>
          </a:p>
        </p:txBody>
      </p:sp>
      <p:cxnSp>
        <p:nvCxnSpPr>
          <p:cNvPr id="223" name="Straight Arrow Connector 13"/>
          <p:cNvCxnSpPr>
            <a:stCxn id="221" idx="3"/>
            <a:endCxn id="222" idx="0"/>
          </p:cNvCxnSpPr>
          <p:nvPr/>
        </p:nvCxnSpPr>
        <p:spPr>
          <a:xfrm>
            <a:off x="6761160" y="3352680"/>
            <a:ext cx="838800" cy="442080"/>
          </a:xfrm>
          <a:prstGeom prst="straightConnector1">
            <a:avLst/>
          </a:prstGeom>
          <a:ln w="25560">
            <a:solidFill>
              <a:srgbClr val="4a7ebb"/>
            </a:solidFill>
            <a:miter/>
            <a:tailEnd len="med" type="arrow" w="med"/>
          </a:ln>
        </p:spPr>
      </p:cxnSp>
      <p:sp>
        <p:nvSpPr>
          <p:cNvPr id="224" name="TextBox 14"/>
          <p:cNvSpPr/>
          <p:nvPr/>
        </p:nvSpPr>
        <p:spPr>
          <a:xfrm>
            <a:off x="7022880" y="3135240"/>
            <a:ext cx="184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hash(sal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a:t>
            </a:r>
            <a:endParaRPr b="0" lang="en-US" sz="1800" spc="-1" strike="noStrike">
              <a:solidFill>
                <a:srgbClr val="000000"/>
              </a:solidFill>
              <a:latin typeface="Arial"/>
            </a:endParaRPr>
          </a:p>
        </p:txBody>
      </p:sp>
      <p:sp>
        <p:nvSpPr>
          <p:cNvPr id="225" name="&quot;No&quot; Symbol 16"/>
          <p:cNvSpPr/>
          <p:nvPr/>
        </p:nvSpPr>
        <p:spPr>
          <a:xfrm>
            <a:off x="5762520" y="2819520"/>
            <a:ext cx="1836720" cy="1676160"/>
          </a:xfrm>
          <a:custGeom>
            <a:avLst/>
            <a:gdLst/>
            <a:ahLst/>
            <a:rect l="l" t="t" r="r" b="b"/>
            <a:pathLst>
              <a:path w="1836738" h="1676400">
                <a:moveTo>
                  <a:pt x="0" y="838200"/>
                </a:moveTo>
                <a:cubicBezTo>
                  <a:pt x="0" y="375275"/>
                  <a:pt x="411168" y="0"/>
                  <a:pt x="918369" y="0"/>
                </a:cubicBezTo>
                <a:cubicBezTo>
                  <a:pt x="1425570" y="0"/>
                  <a:pt x="1836738" y="375275"/>
                  <a:pt x="1836738" y="838200"/>
                </a:cubicBezTo>
                <a:cubicBezTo>
                  <a:pt x="1836738" y="1301125"/>
                  <a:pt x="1425570" y="1676400"/>
                  <a:pt x="918369" y="1676400"/>
                </a:cubicBezTo>
                <a:cubicBezTo>
                  <a:pt x="411168" y="1676400"/>
                  <a:pt x="0" y="1301125"/>
                  <a:pt x="0" y="838200"/>
                </a:cubicBezTo>
                <a:close/>
                <a:moveTo>
                  <a:pt x="1440341" y="1101851"/>
                </a:moveTo>
                <a:cubicBezTo>
                  <a:pt x="1591591" y="876619"/>
                  <a:pt x="1528916" y="589210"/>
                  <a:pt x="1293273" y="427439"/>
                </a:cubicBezTo>
                <a:cubicBezTo>
                  <a:pt x="1103689" y="297287"/>
                  <a:pt x="842881" y="277725"/>
                  <a:pt x="630347" y="377714"/>
                </a:cubicBezTo>
                <a:lnTo>
                  <a:pt x="1440341" y="1101851"/>
                </a:lnTo>
                <a:close/>
                <a:moveTo>
                  <a:pt x="396397" y="574549"/>
                </a:moveTo>
                <a:cubicBezTo>
                  <a:pt x="245147" y="799781"/>
                  <a:pt x="307822" y="1087190"/>
                  <a:pt x="543465" y="1248961"/>
                </a:cubicBezTo>
                <a:cubicBezTo>
                  <a:pt x="733049" y="1379113"/>
                  <a:pt x="993857" y="1398675"/>
                  <a:pt x="1206391" y="1298686"/>
                </a:cubicBezTo>
                <a:lnTo>
                  <a:pt x="396397" y="574549"/>
                </a:lnTo>
                <a:close/>
              </a:path>
            </a:pathLst>
          </a:custGeom>
          <a:solidFill>
            <a:srgbClr val="ff0000">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Rectangle 29"/>
          <p:cNvSpPr/>
          <p:nvPr/>
        </p:nvSpPr>
        <p:spPr>
          <a:xfrm>
            <a:off x="5029200" y="4735440"/>
            <a:ext cx="1752480" cy="609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ent</a:t>
            </a:r>
            <a:endParaRPr b="0" lang="en-US" sz="1800" spc="-1" strike="noStrike">
              <a:solidFill>
                <a:srgbClr val="000000"/>
              </a:solidFill>
              <a:latin typeface="Arial"/>
            </a:endParaRPr>
          </a:p>
        </p:txBody>
      </p:sp>
      <p:sp>
        <p:nvSpPr>
          <p:cNvPr id="227" name="Rectangle 30"/>
          <p:cNvSpPr/>
          <p:nvPr/>
        </p:nvSpPr>
        <p:spPr>
          <a:xfrm>
            <a:off x="6497640" y="5486400"/>
            <a:ext cx="2286000" cy="609480"/>
          </a:xfrm>
          <a:prstGeom prst="rect">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rver sto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ash(salt+Sent)</a:t>
            </a:r>
            <a:endParaRPr b="0" lang="en-US" sz="1800" spc="-1" strike="noStrike">
              <a:solidFill>
                <a:srgbClr val="000000"/>
              </a:solidFill>
              <a:latin typeface="Arial"/>
            </a:endParaRPr>
          </a:p>
        </p:txBody>
      </p:sp>
      <p:cxnSp>
        <p:nvCxnSpPr>
          <p:cNvPr id="228" name="Straight Arrow Connector 31"/>
          <p:cNvCxnSpPr>
            <a:stCxn id="226" idx="3"/>
            <a:endCxn id="227" idx="0"/>
          </p:cNvCxnSpPr>
          <p:nvPr/>
        </p:nvCxnSpPr>
        <p:spPr>
          <a:xfrm>
            <a:off x="6781680" y="5040000"/>
            <a:ext cx="859680" cy="446760"/>
          </a:xfrm>
          <a:prstGeom prst="straightConnector1">
            <a:avLst/>
          </a:prstGeom>
          <a:ln w="25560">
            <a:solidFill>
              <a:srgbClr val="4a7ebb"/>
            </a:solidFill>
            <a:miter/>
            <a:tailEnd len="med" type="arrow" w="med"/>
          </a:ln>
        </p:spPr>
      </p:cxnSp>
      <p:sp>
        <p:nvSpPr>
          <p:cNvPr id="229" name="TextBox 32"/>
          <p:cNvSpPr/>
          <p:nvPr/>
        </p:nvSpPr>
        <p:spPr>
          <a:xfrm>
            <a:off x="6900480" y="4840200"/>
            <a:ext cx="184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hash(sal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1CD4-C548-4478-92E8-B813F8D7AF15}" type="datetime3">
              <a:rPr b="0" lang="en-US" sz="1200" spc="-1" strike="noStrike">
                <a:solidFill>
                  <a:srgbClr val="898989"/>
                </a:solidFill>
                <a:latin typeface="Calibri"/>
              </a:rPr>
              <a:t>July 30, 2026</a:t>
            </a:fld>
            <a:endParaRPr b="0" lang="en-US" sz="1200" spc="-1" strike="noStrike">
              <a:solidFill>
                <a:srgbClr val="000000"/>
              </a:solidFill>
              <a:latin typeface="Arial"/>
            </a:endParaRPr>
          </a:p>
        </p:txBody>
      </p:sp>
      <p:sp>
        <p:nvSpPr>
          <p:cNvPr id="2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0A4D-74C3-46F5-8A9D-7E4D74456B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should you use?</a:t>
            </a: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ypto algorithms often broken over time; support switching algorithms*</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d-secret encryption – do </a:t>
            </a:r>
            <a:r>
              <a:rPr b="0" i="1" lang="en-US" sz="2000" spc="-1" strike="noStrike">
                <a:solidFill>
                  <a:srgbClr val="000000"/>
                </a:solidFill>
                <a:latin typeface="Calibri"/>
              </a:rPr>
              <a:t>not</a:t>
            </a:r>
            <a:r>
              <a:rPr b="0" lang="en-US" sz="2000" spc="-1" strike="noStrike">
                <a:solidFill>
                  <a:srgbClr val="000000"/>
                </a:solidFill>
                <a:latin typeface="Calibri"/>
              </a:rPr>
              <a:t> use DES (key is too short)</a:t>
            </a:r>
            <a:endParaRPr b="0" lang="en-US" sz="20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now, use (at least) AES</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ort at least 3DES as alternate (slow,  but secure due to decades of attack)</a:t>
            </a:r>
            <a:endParaRPr b="0" lang="en-US" sz="18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shing (“fingerprinting”) – do </a:t>
            </a:r>
            <a:r>
              <a:rPr b="0" i="1" lang="en-US" sz="2000" spc="-1" strike="noStrike">
                <a:solidFill>
                  <a:srgbClr val="000000"/>
                </a:solidFill>
                <a:latin typeface="Calibri"/>
              </a:rPr>
              <a:t>not</a:t>
            </a:r>
            <a:r>
              <a:rPr b="0" lang="en-US" sz="2000" spc="-1" strike="noStrike">
                <a:solidFill>
                  <a:srgbClr val="000000"/>
                </a:solidFill>
                <a:latin typeface="Calibri"/>
              </a:rPr>
              <a:t> use MD5</a:t>
            </a:r>
            <a:endParaRPr b="0" lang="en-US" sz="20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ve smartly away from weakening SHA-1</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2’s SHA-256 or SHA-512 are useful &amp; widely available, but some concerns</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also) using SHA-3; at least make it easy to switch to SHA-3</a:t>
            </a:r>
            <a:endParaRPr b="0" lang="en-US" sz="18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blic key</a:t>
            </a:r>
            <a:endParaRPr b="0" lang="en-US" sz="20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ually RSA (patents expired); again, make it easy to switch</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liptic key cryptography has smaller key sizes, but patent issues lurk</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domness - </a:t>
            </a:r>
            <a:r>
              <a:rPr b="0" lang="en-US" sz="1800" spc="-1" strike="noStrike">
                <a:solidFill>
                  <a:srgbClr val="000000"/>
                </a:solidFill>
                <a:latin typeface="Calibri"/>
              </a:rPr>
              <a:t>do </a:t>
            </a:r>
            <a:r>
              <a:rPr b="0" i="1" lang="en-US" sz="1800" spc="-1" strike="noStrike">
                <a:solidFill>
                  <a:srgbClr val="000000"/>
                </a:solidFill>
                <a:latin typeface="Calibri"/>
              </a:rPr>
              <a:t>not</a:t>
            </a:r>
            <a:r>
              <a:rPr b="0" lang="en-US" sz="1800" spc="-1" strike="noStrike">
                <a:solidFill>
                  <a:srgbClr val="000000"/>
                </a:solidFill>
                <a:latin typeface="Calibri"/>
              </a:rPr>
              <a:t> use most “random” functions (easily guessed by attacker)</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ryptographic PRNGs, e.g., Linux /dev/random, Java SecureRandom()</a:t>
            </a:r>
            <a:endParaRPr b="0" lang="en-US" sz="1800" spc="-1" strike="noStrike">
              <a:solidFill>
                <a:srgbClr val="000000"/>
              </a:solidFill>
              <a:latin typeface="Calibri"/>
            </a:endParaRPr>
          </a:p>
        </p:txBody>
      </p:sp>
      <p:sp>
        <p:nvSpPr>
          <p:cNvPr id="234" name="TextBox 1"/>
          <p:cNvSpPr/>
          <p:nvPr/>
        </p:nvSpPr>
        <p:spPr>
          <a:xfrm>
            <a:off x="5793480" y="6361200"/>
            <a:ext cx="238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ave I said this before? </a:t>
            </a:r>
            <a:r>
              <a:rPr b="0" lang="en-US" sz="1400" spc="-1" strike="noStrike">
                <a:solidFill>
                  <a:srgbClr val="000000"/>
                </a:solidFill>
                <a:latin typeface="Wingdings"/>
                <a:ea typeface="Wingdings"/>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eping secrets</a:t>
            </a:r>
            <a:endParaRPr b="0" lang="en-U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ften need passwords/keys for program</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for database system, external sit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t build into source… store separatel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nimize what processes have secre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nimize time keeping secre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rase securely ASAP</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harder than you’d think!</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k into memory with mlock() / VirtualLock()</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garbage collector won’t make extra copies, and will really get rid of it</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ureString in .NET</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Haven’t found good way in Java; String worst, char[] arrays better</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write… and make sure compiler doesn’t “optimize away” the overwrite!</a:t>
            </a:r>
            <a:endParaRPr b="0" lang="en-US" sz="2000" spc="-1" strike="noStrike">
              <a:solidFill>
                <a:srgbClr val="000000"/>
              </a:solidFill>
              <a:latin typeface="Calibri"/>
            </a:endParaRPr>
          </a:p>
        </p:txBody>
      </p:sp>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1AED-EEE9-4738-B865-3B8F518E71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ital certificates</a:t>
            </a:r>
            <a:endParaRPr b="0" lang="en-US" sz="44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ic document (file) that binds a public key with an identity (person/organ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ly has other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ual format: X.50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signed by others; often in a chain, leading back to some root certific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root certificates built into web browsers, providing a place to st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94C9-16E4-409E-96DD-5BC1920FDA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ptographic protocols</a:t>
            </a:r>
            <a:endParaRPr b="0" lang="en-US" sz="44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on crypto algorithms to create confidentiality &amp; integri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ure Socket Layer (SSL) / Transport Layer Security (TLS) – “https:”; officially TLS is new na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et Protocol Security (IPSec) – often used for Virtual Private Networ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SH: Secures remote termin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rberos: Single-sign-on/authentication over network (Windows uses proprietary variant)</a:t>
            </a:r>
            <a:endParaRPr b="0" lang="en-US" sz="2800" spc="-1" strike="noStrike">
              <a:solidFill>
                <a:srgbClr val="000000"/>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6E92-F2E8-41B9-AEB6-BE34439C93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SL/TLS cert validation often implemented incorrectly</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erro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ilure to verify chain-of-trus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ilure verify hostname (certs only valid for given hostname or patter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ilure to deal with certification revocation &amp; X.509 extensions (key usage limits, name constraints, etc.)</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use: Confusing APIs in SSL/TLS &amp; data transport librari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SSL SSL_connect: Return value signals some errors, but if “OK” must then check “verify result” flag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va SSLSocketFactory doesn’t always verify hostnam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L: if CURLOPT_SSL_VERIFYHOST=true, hostname check </a:t>
            </a:r>
            <a:r>
              <a:rPr b="0" i="1" lang="en-US" sz="1800" spc="-1" strike="noStrike">
                <a:solidFill>
                  <a:srgbClr val="000000"/>
                </a:solidFill>
                <a:latin typeface="Calibri"/>
              </a:rPr>
              <a:t>disable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test code with </a:t>
            </a:r>
            <a:r>
              <a:rPr b="0" i="1" lang="en-US" sz="2000" spc="-1" strike="noStrike">
                <a:solidFill>
                  <a:srgbClr val="000000"/>
                </a:solidFill>
                <a:latin typeface="Calibri"/>
              </a:rPr>
              <a:t>abnormal</a:t>
            </a:r>
            <a:r>
              <a:rPr b="0" lang="en-US" sz="2000" spc="-1" strike="noStrike">
                <a:solidFill>
                  <a:srgbClr val="000000"/>
                </a:solidFill>
                <a:latin typeface="Calibri"/>
              </a:rPr>
              <a:t> certs (unknown, wrong hos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st environment add self-signed certs/CAs to keystore; </a:t>
            </a:r>
            <a:r>
              <a:rPr b="0" i="1" lang="en-US" sz="2000" spc="-1" strike="noStrike">
                <a:solidFill>
                  <a:srgbClr val="000000"/>
                </a:solidFill>
                <a:latin typeface="Calibri"/>
              </a:rPr>
              <a:t>don’t</a:t>
            </a:r>
            <a:r>
              <a:rPr b="0" lang="en-US" sz="2000" spc="-1" strike="noStrike">
                <a:solidFill>
                  <a:srgbClr val="000000"/>
                </a:solidFill>
                <a:latin typeface="Calibri"/>
              </a:rPr>
              <a:t> disab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API docs </a:t>
            </a:r>
            <a:r>
              <a:rPr b="0" i="1" lang="en-US" sz="2000" spc="-1" strike="noStrike">
                <a:solidFill>
                  <a:srgbClr val="000000"/>
                </a:solidFill>
                <a:latin typeface="Calibri"/>
              </a:rPr>
              <a:t>carefully</a:t>
            </a:r>
            <a:r>
              <a:rPr b="0" lang="en-US" sz="2000" spc="-1" strike="noStrike">
                <a:solidFill>
                  <a:srgbClr val="000000"/>
                </a:solidFill>
                <a:latin typeface="Calibri"/>
              </a:rPr>
              <a:t>, explicitly set options, carefully check resul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The most dangerous code in the world: Validating SSL certificates in non-browser software” by Goergiev et al, 2012</a:t>
            </a:r>
            <a:endParaRPr b="0" lang="en-US" sz="2000" spc="-1" strike="noStrike">
              <a:solidFill>
                <a:srgbClr val="000000"/>
              </a:solidFill>
              <a:latin typeface="Calibri"/>
            </a:endParaRPr>
          </a:p>
        </p:txBody>
      </p:sp>
      <p:sp>
        <p:nvSpPr>
          <p:cNvPr id="2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E1F3-6787-4209-ABEF-78D3F50D65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Key Infrastructure (PKI) / Certificate Authority (CA) Issues (1)</a:t>
            </a:r>
            <a:endParaRPr b="0" lang="en-US" sz="44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protocols authenticate the server (destination) by checking certifica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an you be sure that the certificate belongs to that serv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pting a wrong one leads to man-in-the-middle attac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PKI” provides certificates, e.g., from 1+ certificate authorities (CA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fortunately, many CAs untrustworth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mmary: “Defcon 19: Moxie Marlinspike - SSL And The Future Of Authenticity” http://www.youtube.com/watch?v=xIiklPyS8MU</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ow away “bad” CAs = can’t access most of the Interne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organizations even self-subver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LS/SSL still helpful, but greatly weakened because of thi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iginally designed vs. passive attacks, authenticity was “a bit of a hand wav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easy solution, and not enough people working to solve i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some scenarios “certificate pinning” &amp; DNSSEC can help</a:t>
            </a:r>
            <a:endParaRPr b="0" lang="en-US" sz="1800" spc="-1" strike="noStrike">
              <a:solidFill>
                <a:srgbClr val="000000"/>
              </a:solidFill>
              <a:latin typeface="Calibri"/>
            </a:endParaRPr>
          </a:p>
        </p:txBody>
      </p:sp>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E4530-0F5C-4FB9-82F3-86FB23B666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Key Infrastructure (PKI) / Certificate Authority (CA) Issues (2)</a:t>
            </a: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eed to </a:t>
            </a:r>
            <a:r>
              <a:rPr b="0" i="1" lang="en-US" sz="2500" spc="-1" strike="noStrike">
                <a:solidFill>
                  <a:srgbClr val="000000"/>
                </a:solidFill>
                <a:latin typeface="Calibri"/>
              </a:rPr>
              <a:t>revoke</a:t>
            </a:r>
            <a:r>
              <a:rPr b="0" lang="en-US" sz="2500" spc="-1" strike="noStrike">
                <a:solidFill>
                  <a:srgbClr val="000000"/>
                </a:solidFill>
                <a:latin typeface="Calibri"/>
              </a:rPr>
              <a:t> compromised certificates, bu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urrently-available revocation mechanisms broke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rtificate Revocation List (CRL)(: Client downloads revocation list.   Slow, attacker can prevent, hasn’t scaled with Interne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line Certificate Status Protocol (OCSP): Client online query.  Slow,  attacker can prev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CSP Stapling: Server online query &amp; provides to client.  Attacker can prevent (by filtering ou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LSets: Blacklist of known bad certs.   Attacker can prevent CRLSet download, only revokes a few (popular) certificat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st-staple HTTP header.: Attacker can prev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ort-lived certificates: Doesn’t scale, interferes with pinn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509 OCSP must-staple: No spec, not widely implemented</a:t>
            </a:r>
            <a:endParaRPr b="0" lang="en-US" sz="2200" spc="-1" strike="noStrike">
              <a:solidFill>
                <a:srgbClr val="000000"/>
              </a:solidFill>
              <a:latin typeface="Calibri"/>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05DA-BDFA-4EB8-9596-015546DC9F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Key Infrastructure (PKI) / Certificate Authority (CA) Issues (3)</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view with Kipp Hickman, designer of original SSL protoco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So, certificate authorities was the deal… Oh, that whole authenticity thin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e were designing SSL to prevent passive attacks for the most part, you know.”</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e heard about this thing – the man-in-the-middle attack – and so we just threw that in at the en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Really, that whole thing with certificates, it was a bit of a hand wave. We didn’t think it was gonna work, we didn’t know”.</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 http://privacy-pc.com/articles/ssl-and-the-future-of-authenticity-2-certificate-authorities.html</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ther disturbing comments for such a key protoc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ter versions improved, but CAs &amp; revocation still a big proble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 prepared to change if solutions become available</a:t>
            </a:r>
            <a:endParaRPr b="0" lang="en-US" sz="2200" spc="-1" strike="noStrike">
              <a:solidFill>
                <a:srgbClr val="000000"/>
              </a:solidFill>
              <a:latin typeface="Calibri"/>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D606-F9B9-45C8-A285-6FF625D743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nger, Will Robins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ver, never, never, never, never, never, never</a:t>
            </a:r>
            <a:br>
              <a:rPr sz="3000"/>
            </a:br>
            <a:r>
              <a:rPr b="0" lang="en-US" sz="3000" spc="-1" strike="noStrike">
                <a:solidFill>
                  <a:srgbClr val="000000"/>
                </a:solidFill>
                <a:latin typeface="Calibri"/>
              </a:rPr>
              <a:t>create your cryptographic algorithm or protocol</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alist training: PhD in math + 10+ years experience to create new approach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n then, the odds are good you’ll get it wro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use what’s been done</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very cautious; tiny implementation errors of crypto algorithms, or in how they are invoked, often become massive vulnerabil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use </a:t>
            </a:r>
            <a:r>
              <a:rPr b="0" lang="en-US" sz="2600" spc="-1" strike="noStrike" u="sng">
                <a:solidFill>
                  <a:srgbClr val="000000"/>
                </a:solidFill>
                <a:uFillTx/>
                <a:latin typeface="Calibri"/>
              </a:rPr>
              <a:t>good</a:t>
            </a:r>
            <a:r>
              <a:rPr b="0" lang="en-US" sz="2600" spc="-1" strike="noStrike">
                <a:solidFill>
                  <a:srgbClr val="000000"/>
                </a:solidFill>
                <a:latin typeface="Calibri"/>
              </a:rPr>
              <a:t> implementations where practical</a:t>
            </a:r>
            <a:endParaRPr b="0" lang="en-US" sz="2600" spc="-1" strike="noStrike">
              <a:solidFill>
                <a:srgbClr val="000000"/>
              </a:solidFill>
              <a:latin typeface="Calibri"/>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B104-6BD2-4185-98ED-DF2D110F717B}" type="datetime3">
              <a:rPr b="0" lang="en-US" sz="1200" spc="-1" strike="noStrike">
                <a:solidFill>
                  <a:srgbClr val="898989"/>
                </a:solidFill>
                <a:latin typeface="Calibri"/>
              </a:rPr>
              <a:t>July 30, 2026</a:t>
            </a:fld>
            <a:endParaRPr b="0" lang="en-US" sz="1200" spc="-1" strike="noStrike">
              <a:solidFill>
                <a:srgbClr val="000000"/>
              </a:solidFill>
              <a:latin typeface="Arial"/>
            </a:endParaRPr>
          </a:p>
        </p:txBody>
      </p:sp>
      <p:sp>
        <p:nvSpPr>
          <p:cNvPr id="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50E8F-5634-4958-92A0-D07C36C819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ing attacks: The problem</a:t>
            </a: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algorithms take a variable amount of tim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array “is equal to?” usually stops on first unequal valu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tackers can get confidential info (like private keys) through thi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ackers perform act multiple tim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statistics to eliminate jitter; a shocking amount is remov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for “is equal to” attacker can determine if he guessed first one correctly, then second one, then third on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es, it really work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100μs accuracy across the Internet and 100ns over a local network [Crosby2009]</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example (finding 20 byte HMAC result):  Keyczar used standard equality test, allowing attacker to find session value in &lt; week with 10 req/s… “and all of a sudden I’m logged in as you” [Hale2009]</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ttacker on same system or has shared resources (such as mobile apps or virtualized cloud), </a:t>
            </a:r>
            <a:r>
              <a:rPr b="0" i="1" lang="en-US" sz="2000" spc="-1" strike="noStrike" u="sng">
                <a:solidFill>
                  <a:srgbClr val="000000"/>
                </a:solidFill>
                <a:uFillTx/>
                <a:latin typeface="Calibri"/>
              </a:rPr>
              <a:t>timing attack problems are even worse</a:t>
            </a:r>
            <a:endParaRPr b="0" lang="en-US" sz="2000" spc="-1" strike="noStrike">
              <a:solidFill>
                <a:srgbClr val="000000"/>
              </a:solidFill>
              <a:latin typeface="Calibri"/>
            </a:endParaRPr>
          </a:p>
        </p:txBody>
      </p:sp>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BF46-29EC-429C-A504-F21F806655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ing attacks: Solutions</a:t>
            </a:r>
            <a:endParaRPr b="0" lang="en-US" sz="4400" spc="-1" strike="noStrike">
              <a:solidFill>
                <a:srgbClr val="000000"/>
              </a:solidFill>
              <a:latin typeface="Calibri"/>
            </a:endParaRPr>
          </a:p>
        </p:txBody>
      </p:sp>
      <p:sp>
        <p:nvSpPr>
          <p:cNvPr id="260"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iming-independent (sometimes called “constant-time”) algorithm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Not</a:t>
            </a:r>
            <a:r>
              <a:rPr b="0" lang="en-US" sz="1800" spc="-1" strike="noStrike">
                <a:solidFill>
                  <a:srgbClr val="000000"/>
                </a:solidFill>
                <a:latin typeface="Calibri"/>
              </a:rPr>
              <a:t> the same as O(1) algorithm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is equal to” in Java [Lawson2010] [Hale2009]:</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 static boolean isEqual(byte[] a, byte[] b) {</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f (a.length != b.length) { return false;  } // Omitting this is a bad bug</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t result = 0;</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or (int i = 0; i &lt; a.length; i++) {  // Note that we </a:t>
            </a:r>
            <a:r>
              <a:rPr b="0" i="1" lang="en-US" sz="1800" spc="-1" strike="noStrike">
                <a:solidFill>
                  <a:srgbClr val="000000"/>
                </a:solidFill>
                <a:latin typeface="Calibri"/>
              </a:rPr>
              <a:t>always</a:t>
            </a:r>
            <a:r>
              <a:rPr b="0" lang="en-US" sz="1800" spc="-1" strike="noStrike">
                <a:solidFill>
                  <a:srgbClr val="000000"/>
                </a:solidFill>
                <a:latin typeface="Calibri"/>
              </a:rPr>
              <a:t> examine everything</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sult |= a[i] ^ b[i];</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turn result == 0;</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ypto library implementations have to worry about this broadl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if you need timing-independent, </a:t>
            </a:r>
            <a:r>
              <a:rPr b="0" i="1" lang="en-US" sz="2000" spc="-1" strike="noStrike">
                <a:solidFill>
                  <a:srgbClr val="000000"/>
                </a:solidFill>
                <a:latin typeface="Calibri"/>
              </a:rPr>
              <a:t>especially</a:t>
            </a:r>
            <a:r>
              <a:rPr b="0" lang="en-US" sz="2000" spc="-1" strike="noStrike">
                <a:solidFill>
                  <a:srgbClr val="000000"/>
                </a:solidFill>
                <a:latin typeface="Calibri"/>
              </a:rPr>
              <a:t> when using crypto</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particular, use them when comparing hashed or encrypted values, or when doing anything with private key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ing attacks apply broadly, but “is equal to” is especially common issu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ssageDigest.equal() was fixed in Java SE 6 Update 17</a:t>
            </a:r>
            <a:endParaRPr b="0" lang="en-US" sz="1800" spc="-1" strike="noStrike">
              <a:solidFill>
                <a:srgbClr val="000000"/>
              </a:solidFill>
              <a:latin typeface="Calibri"/>
            </a:endParaRPr>
          </a:p>
        </p:txBody>
      </p:sp>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7D3A-655B-40D6-A27F-E888A1DF5B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ture potential issue:</a:t>
            </a:r>
            <a:br>
              <a:rPr sz="4400"/>
            </a:br>
            <a:r>
              <a:rPr b="0" lang="en-US" sz="4400" spc="-1" strike="noStrike">
                <a:solidFill>
                  <a:srgbClr val="000000"/>
                </a:solidFill>
                <a:latin typeface="Calibri"/>
              </a:rPr>
              <a:t>Quantum Computing</a:t>
            </a:r>
            <a:endParaRPr b="0" lang="en-US"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expect quantum computers to work (in a serious way) in the future</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existing cryptographic approaches will probably break if quantum computers are practically implementable (“quantum-breakable”)</a:t>
            </a:r>
            <a:endParaRPr b="0" lang="en-US" sz="30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G., RSA, Diffie-Hellman key exchange, elliptic curve</a:t>
            </a:r>
            <a:endParaRPr b="0" lang="en-US" sz="26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yptographers working to develop “quantum-resistant” schemes (aka “quantum-secure”)</a:t>
            </a:r>
            <a:endParaRPr b="0" lang="en-US" sz="30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roaches being researched include lattice-based, code-based, &amp; multivariate cryptography</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clear if these new approaches will be ready in time!</a:t>
            </a:r>
            <a:endParaRPr b="0" lang="en-US" sz="2600" spc="-1" strike="noStrike">
              <a:solidFill>
                <a:srgbClr val="000000"/>
              </a:solidFill>
              <a:latin typeface="Calibri"/>
            </a:endParaRPr>
          </a:p>
        </p:txBody>
      </p:sp>
      <p:sp>
        <p:nvSpPr>
          <p:cNvPr id="2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9612-86F1-4EEE-89BB-F694786E89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introductory books on cryptography</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pplied Cryptography</a:t>
            </a:r>
            <a:r>
              <a:rPr b="0" lang="en-US" sz="3200" spc="-1" strike="noStrike">
                <a:solidFill>
                  <a:srgbClr val="000000"/>
                </a:solidFill>
                <a:latin typeface="Calibri"/>
              </a:rPr>
              <a:t> by Bruce Schneier (1994 &amp; 1996) – highly influential, incredibly researched, somewhat da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Handbook of Applied Cryptography </a:t>
            </a:r>
            <a:r>
              <a:rPr b="0" lang="nl-NL" sz="3200" spc="-1" strike="noStrike">
                <a:solidFill>
                  <a:srgbClr val="000000"/>
                </a:solidFill>
                <a:latin typeface="Calibri"/>
              </a:rPr>
              <a:t>by Alfred J. Menezes, Paul C. van Oorschot and Scott A. Vanstone (2001) - newer, contents freely available at http://cacr.uwaterloo.ca/ha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Practical </a:t>
            </a:r>
            <a:r>
              <a:rPr b="0" i="1" lang="en-US" sz="3200" spc="-1" strike="noStrike">
                <a:solidFill>
                  <a:srgbClr val="000000"/>
                </a:solidFill>
                <a:latin typeface="Calibri"/>
              </a:rPr>
              <a:t>Cryptography</a:t>
            </a:r>
            <a:r>
              <a:rPr b="0" lang="en-US" sz="3200" spc="-1" strike="noStrike">
                <a:solidFill>
                  <a:srgbClr val="000000"/>
                </a:solidFill>
                <a:latin typeface="Calibri"/>
              </a:rPr>
              <a:t> by Niels Ferguson and Bruce Schneier (2003) – updated, shorter</a:t>
            </a:r>
            <a:endParaRPr b="0" lang="en-US" sz="3200" spc="-1" strike="noStrike">
              <a:solidFill>
                <a:srgbClr val="000000"/>
              </a:solidFill>
              <a:latin typeface="Calibri"/>
            </a:endParaRPr>
          </a:p>
        </p:txBody>
      </p:sp>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9154-E3A1-4392-A595-A0E5BC1BCC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 not create your own crypto algorithm/protoco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possible, reuse existing implementation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t>
            </a:r>
            <a:r>
              <a:rPr b="0" i="1" lang="en-US" sz="2600" spc="-1" strike="noStrike">
                <a:solidFill>
                  <a:srgbClr val="000000"/>
                </a:solidFill>
                <a:latin typeface="Calibri"/>
              </a:rPr>
              <a:t>least</a:t>
            </a:r>
            <a:r>
              <a:rPr b="0" lang="en-US" sz="2600" spc="-1" strike="noStrike">
                <a:solidFill>
                  <a:srgbClr val="000000"/>
                </a:solidFill>
                <a:latin typeface="Calibri"/>
              </a:rPr>
              <a:t> reuse existing algorithms (after you make sure they’re okay via public sources!)</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pport multiple algorithms, allow switch via configuration</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ypto algorithms are often broke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ing them configurable makes switch easy</a:t>
            </a:r>
            <a:endParaRPr b="0" lang="en-US" sz="2600" spc="-1" strike="noStrike">
              <a:solidFill>
                <a:srgbClr val="000000"/>
              </a:solidFill>
              <a:latin typeface="Calibri"/>
            </a:endParaRPr>
          </a:p>
        </p:txBody>
      </p:sp>
      <p:sp>
        <p:nvSpPr>
          <p:cNvPr id="2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33C2-9632-4836-9530-62DEBA7305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ased under CC BY-SA 3.0</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esentation is released under the Creative Commons Attribution-ShareAlike 3.0 Unported (CC BY-SA 3.0) licens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are fre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hare — to copy, distribute and transmi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Remix — to adap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ake commercial use of the work</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 the following condit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ribution — You must attribute the work in the manner specified by the author or licensor (but not in any way that suggests that they endorse you or your use of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re Alike — If you alter, transform, or build upon this work, you may distribute the resulting work only under the same or similar license to this on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conditions can be waived by permission from the copyright hold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wheeler at dwheeler dot co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ails at: http://creativecommons.org/licenses/by-sa/3.0/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ribute me as “David A. Wheeler”</a:t>
            </a:r>
            <a:endParaRPr b="0" lang="en-US" sz="2000" spc="-1" strike="noStrike">
              <a:solidFill>
                <a:srgbClr val="000000"/>
              </a:solidFill>
              <a:latin typeface="Calibri"/>
            </a:endParaRPr>
          </a:p>
        </p:txBody>
      </p:sp>
      <p:sp>
        <p:nvSpPr>
          <p:cNvPr id="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69CF-FEAD-44FB-A95F-E6EC3F3DBC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igma</a:t>
            </a:r>
            <a:endParaRPr b="0" lang="en-US" sz="4400" spc="-1" strike="noStrike">
              <a:solidFill>
                <a:srgbClr val="000000"/>
              </a:solidFill>
              <a:latin typeface="Calibri"/>
            </a:endParaRPr>
          </a:p>
        </p:txBody>
      </p:sp>
      <p:sp>
        <p:nvSpPr>
          <p:cNvPr id="64" name=""/>
          <p:cNvSpPr txBox="1"/>
          <p:nvPr/>
        </p:nvSpPr>
        <p:spPr>
          <a:xfrm>
            <a:off x="380880" y="1527120"/>
            <a:ext cx="419112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azi Germany used the “Enigma” machine widel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y cryptanalysis broke it &amp; got extremely valuable intelligence (“Ult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lue debated, but Winston Churchill told King George VI, “It was thanks to Ultra that we won the war”</a:t>
            </a:r>
            <a:endParaRPr b="0" lang="en-US" sz="27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4DE3-DFA7-4A03-8982-06427B600F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5" descr=""/>
          <p:cNvPicPr/>
          <p:nvPr/>
        </p:nvPicPr>
        <p:blipFill>
          <a:blip r:embed="rId1"/>
          <a:stretch/>
        </p:blipFill>
        <p:spPr>
          <a:xfrm>
            <a:off x="5102280" y="1371600"/>
            <a:ext cx="3628800" cy="4838760"/>
          </a:xfrm>
          <a:prstGeom prst="rect">
            <a:avLst/>
          </a:prstGeom>
          <a:ln w="0">
            <a:noFill/>
          </a:ln>
        </p:spPr>
      </p:pic>
      <p:sp>
        <p:nvSpPr>
          <p:cNvPr id="67" name="TextBox 1"/>
          <p:cNvSpPr/>
          <p:nvPr/>
        </p:nvSpPr>
        <p:spPr>
          <a:xfrm>
            <a:off x="4114800" y="631332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NSA (via Wikip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ommon basic types of cryptographic algorithm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mmetric (secret/shared key) encryption/decryption</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gorithm examples: DES*, 3DES, AES</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ey exchang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gorithm examples: Diffie-Hellman, Curve25519</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ymmetric (public key) encryption/decryption</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gorithm examples: RSA, elliptic curve family</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yptographic (one-way) hash (aka “digital fingerprint”)</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gorithm examples: MD5*, SHA-1*, SHA-512, SHA-3</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yptographic pseudo-random number generator (PRNG)</a:t>
            </a:r>
            <a:endParaRPr b="0" lang="en-US" sz="26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99B2-74EB-4CFE-B08B-4492055B2E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TextBox 1"/>
          <p:cNvSpPr/>
          <p:nvPr/>
        </p:nvSpPr>
        <p:spPr>
          <a:xfrm>
            <a:off x="1071720" y="6248520"/>
            <a:ext cx="712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ese are examples; do not use these algorithms in future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Cloud 26"/>
          <p:cNvSpPr/>
          <p:nvPr/>
        </p:nvSpPr>
        <p:spPr>
          <a:xfrm>
            <a:off x="3772080" y="3276720"/>
            <a:ext cx="1371600" cy="2678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mmetric (secret/shared key) encryption/decryption</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mmetric encryption/decryption algorithms use the same value (“key”) to encrypt and later decrypt</a:t>
            </a:r>
            <a:endParaRPr b="0" lang="en-US" sz="32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10AA-93CB-4965-AE0E-5C9E9BD0A1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Rectangle 4"/>
          <p:cNvSpPr/>
          <p:nvPr/>
        </p:nvSpPr>
        <p:spPr>
          <a:xfrm>
            <a:off x="1676520" y="4343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crypt</a:t>
            </a:r>
            <a:endParaRPr b="0" lang="en-US" sz="1800" spc="-1" strike="noStrike">
              <a:solidFill>
                <a:srgbClr val="000000"/>
              </a:solidFill>
              <a:latin typeface="Arial"/>
            </a:endParaRPr>
          </a:p>
        </p:txBody>
      </p:sp>
      <p:sp>
        <p:nvSpPr>
          <p:cNvPr id="77" name="Rectangle 6"/>
          <p:cNvSpPr/>
          <p:nvPr/>
        </p:nvSpPr>
        <p:spPr>
          <a:xfrm>
            <a:off x="5715000" y="4343400"/>
            <a:ext cx="15238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crypt</a:t>
            </a:r>
            <a:endParaRPr b="0" lang="en-US" sz="1800" spc="-1" strike="noStrike">
              <a:solidFill>
                <a:srgbClr val="000000"/>
              </a:solidFill>
              <a:latin typeface="Arial"/>
            </a:endParaRPr>
          </a:p>
        </p:txBody>
      </p:sp>
      <p:cxnSp>
        <p:nvCxnSpPr>
          <p:cNvPr id="78" name="Straight Arrow Connector 7"/>
          <p:cNvCxnSpPr>
            <a:stCxn id="76" idx="3"/>
            <a:endCxn id="77" idx="1"/>
          </p:cNvCxnSpPr>
          <p:nvPr/>
        </p:nvCxnSpPr>
        <p:spPr>
          <a:xfrm>
            <a:off x="3200040" y="4686120"/>
            <a:ext cx="2515320" cy="1080"/>
          </a:xfrm>
          <a:prstGeom prst="straightConnector1">
            <a:avLst/>
          </a:prstGeom>
          <a:ln w="25560">
            <a:solidFill>
              <a:srgbClr val="000000"/>
            </a:solidFill>
            <a:miter/>
            <a:tailEnd len="med" type="arrow" w="med"/>
          </a:ln>
        </p:spPr>
      </p:cxnSp>
      <p:cxnSp>
        <p:nvCxnSpPr>
          <p:cNvPr id="79" name="Straight Arrow Connector 9"/>
          <p:cNvCxnSpPr>
            <a:endCxn id="76" idx="1"/>
          </p:cNvCxnSpPr>
          <p:nvPr/>
        </p:nvCxnSpPr>
        <p:spPr>
          <a:xfrm flipV="1">
            <a:off x="418680" y="4686120"/>
            <a:ext cx="1258200" cy="2160"/>
          </a:xfrm>
          <a:prstGeom prst="straightConnector1">
            <a:avLst/>
          </a:prstGeom>
          <a:ln w="25560">
            <a:solidFill>
              <a:srgbClr val="000000"/>
            </a:solidFill>
            <a:miter/>
            <a:tailEnd len="med" type="arrow" w="med"/>
          </a:ln>
        </p:spPr>
      </p:cxnSp>
      <p:cxnSp>
        <p:nvCxnSpPr>
          <p:cNvPr id="80" name="Straight Arrow Connector 11"/>
          <p:cNvCxnSpPr>
            <a:stCxn id="77" idx="3"/>
          </p:cNvCxnSpPr>
          <p:nvPr/>
        </p:nvCxnSpPr>
        <p:spPr>
          <a:xfrm>
            <a:off x="7238880" y="4686480"/>
            <a:ext cx="1410480" cy="2160"/>
          </a:xfrm>
          <a:prstGeom prst="straightConnector1">
            <a:avLst/>
          </a:prstGeom>
          <a:ln w="25560">
            <a:solidFill>
              <a:srgbClr val="000000"/>
            </a:solidFill>
            <a:miter/>
            <a:tailEnd len="med" type="arrow" w="med"/>
          </a:ln>
        </p:spPr>
      </p:cxnSp>
      <p:cxnSp>
        <p:nvCxnSpPr>
          <p:cNvPr id="81" name="Straight Arrow Connector 13"/>
          <p:cNvCxnSpPr>
            <a:endCxn id="76" idx="0"/>
          </p:cNvCxnSpPr>
          <p:nvPr/>
        </p:nvCxnSpPr>
        <p:spPr>
          <a:xfrm>
            <a:off x="2437920" y="3809880"/>
            <a:ext cx="1080" cy="534240"/>
          </a:xfrm>
          <a:prstGeom prst="straightConnector1">
            <a:avLst/>
          </a:prstGeom>
          <a:ln w="25560">
            <a:solidFill>
              <a:srgbClr val="000000"/>
            </a:solidFill>
            <a:miter/>
            <a:tailEnd len="med" type="arrow" w="med"/>
          </a:ln>
        </p:spPr>
      </p:cxnSp>
      <p:cxnSp>
        <p:nvCxnSpPr>
          <p:cNvPr id="82" name="Straight Arrow Connector 17"/>
          <p:cNvCxnSpPr/>
          <p:nvPr/>
        </p:nvCxnSpPr>
        <p:spPr>
          <a:xfrm>
            <a:off x="6552720" y="3625560"/>
            <a:ext cx="1080" cy="717840"/>
          </a:xfrm>
          <a:prstGeom prst="straightConnector1">
            <a:avLst/>
          </a:prstGeom>
          <a:ln w="25560">
            <a:solidFill>
              <a:srgbClr val="000000"/>
            </a:solidFill>
            <a:miter/>
            <a:tailEnd len="med" type="arrow" w="med"/>
          </a:ln>
        </p:spPr>
      </p:cxnSp>
      <p:sp>
        <p:nvSpPr>
          <p:cNvPr id="83" name="TextBox 20"/>
          <p:cNvSpPr/>
          <p:nvPr/>
        </p:nvSpPr>
        <p:spPr>
          <a:xfrm>
            <a:off x="1856880" y="344016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ret key</a:t>
            </a:r>
            <a:endParaRPr b="0" lang="en-US" sz="1800" spc="-1" strike="noStrike">
              <a:solidFill>
                <a:srgbClr val="000000"/>
              </a:solidFill>
              <a:latin typeface="Arial"/>
            </a:endParaRPr>
          </a:p>
        </p:txBody>
      </p:sp>
      <p:cxnSp>
        <p:nvCxnSpPr>
          <p:cNvPr id="84" name="Straight Arrow Connector 24"/>
          <p:cNvCxnSpPr>
            <a:stCxn id="83" idx="3"/>
          </p:cNvCxnSpPr>
          <p:nvPr/>
        </p:nvCxnSpPr>
        <p:spPr>
          <a:xfrm>
            <a:off x="3123720" y="3625560"/>
            <a:ext cx="3429720" cy="1080"/>
          </a:xfrm>
          <a:prstGeom prst="straightConnector1">
            <a:avLst/>
          </a:prstGeom>
          <a:ln w="25560">
            <a:solidFill>
              <a:srgbClr val="000000"/>
            </a:solidFill>
            <a:miter/>
            <a:tailEnd len="med" type="arrow" w="med"/>
          </a:ln>
        </p:spPr>
      </p:cxnSp>
      <p:sp>
        <p:nvSpPr>
          <p:cNvPr id="85" name="TextBox 27"/>
          <p:cNvSpPr/>
          <p:nvPr/>
        </p:nvSpPr>
        <p:spPr>
          <a:xfrm>
            <a:off x="312120" y="466092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intext</a:t>
            </a:r>
            <a:endParaRPr b="0" lang="en-US" sz="1800" spc="-1" strike="noStrike">
              <a:solidFill>
                <a:srgbClr val="000000"/>
              </a:solidFill>
              <a:latin typeface="Arial"/>
            </a:endParaRPr>
          </a:p>
        </p:txBody>
      </p:sp>
      <p:sp>
        <p:nvSpPr>
          <p:cNvPr id="86" name="TextBox 28"/>
          <p:cNvSpPr/>
          <p:nvPr/>
        </p:nvSpPr>
        <p:spPr>
          <a:xfrm>
            <a:off x="7416000" y="470376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intext</a:t>
            </a:r>
            <a:endParaRPr b="0" lang="en-US" sz="1800" spc="-1" strike="noStrike">
              <a:solidFill>
                <a:srgbClr val="000000"/>
              </a:solidFill>
              <a:latin typeface="Arial"/>
            </a:endParaRPr>
          </a:p>
        </p:txBody>
      </p:sp>
      <p:sp>
        <p:nvSpPr>
          <p:cNvPr id="87" name="TextBox 29"/>
          <p:cNvSpPr/>
          <p:nvPr/>
        </p:nvSpPr>
        <p:spPr>
          <a:xfrm>
            <a:off x="3591360" y="4687920"/>
            <a:ext cx="1767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pher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Encryption Standard (D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3: NIST solicited for a D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4: NIST second solicitation, IBM respond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5: Algorithm publish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6: NIST Workshop, adequate “10-15 year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7: DES standardized (FIP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s held up relatively well over tim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 need to avoid weak/semi-weak key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low in softwa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g problem: Key only 56 variable bit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4 bit key, but every 8</a:t>
            </a:r>
            <a:r>
              <a:rPr b="0" lang="en-US" sz="2000" spc="-1" strike="noStrike" baseline="30000">
                <a:solidFill>
                  <a:srgbClr val="000000"/>
                </a:solidFill>
                <a:latin typeface="Calibri"/>
              </a:rPr>
              <a:t>th</a:t>
            </a:r>
            <a:r>
              <a:rPr b="0" lang="en-US" sz="2000" spc="-1" strike="noStrike">
                <a:solidFill>
                  <a:srgbClr val="000000"/>
                </a:solidFill>
                <a:latin typeface="Calibri"/>
              </a:rPr>
              <a:t> bit is odd parity (beware: may use known key if don’t give correct par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sily broken with modern computers/hardwa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 </a:t>
            </a:r>
            <a:r>
              <a:rPr b="0" i="1" lang="en-US" sz="2000" spc="-1" strike="noStrike" u="sng">
                <a:solidFill>
                  <a:srgbClr val="000000"/>
                </a:solidFill>
                <a:uFillTx/>
                <a:latin typeface="Calibri"/>
              </a:rPr>
              <a:t>not</a:t>
            </a:r>
            <a:r>
              <a:rPr b="0" lang="en-US" sz="2000" spc="-1" strike="noStrike">
                <a:solidFill>
                  <a:srgbClr val="000000"/>
                </a:solidFill>
                <a:latin typeface="Calibri"/>
              </a:rPr>
              <a:t> use DES for security today</a:t>
            </a:r>
            <a:endParaRPr b="0" lang="en-US" sz="20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7AA7-3928-4B8C-84A9-6F4735F62B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22:14:44Z</dcterms:created>
  <dc:creator>David A. Wheeler</dc:creator>
  <dc:description/>
  <cp:keywords>input validation regulation expressions attack surface</cp:keywords>
  <dc:language>en-US</dc:language>
  <cp:lastModifiedBy>David A. Wheeler</cp:lastModifiedBy>
  <dcterms:modified xsi:type="dcterms:W3CDTF">2015-09-10T22:29:50Z</dcterms:modified>
  <cp:revision>391</cp:revision>
  <dc:subject>Secure Software Design &amp; Programming - Input Validation</dc:subject>
  <dc:title>SWE 781 / ISA 681 Secure Software Design &amp; Programming</dc:title>
</cp:coreProperties>
</file>